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FC1-4F4B-49E2-A912-DB8702E3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75D-902D-4A38-AFBE-A1DB25F5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4EB-14E1-41FD-A290-EEAB9E43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DB5-3808-44A7-AD8C-1BFCD106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8200" y="358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862-C9FC-4831-A42B-14389090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15F-08ED-4389-BF9E-E5C845BA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F39-F212-42F8-95A4-F3262DF1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EDB-8158-46D2-8855-2B34A5A6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98200" y="358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239-93FF-4A8A-9155-61F7597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45B-FE54-4E6C-A720-79376621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9B7-8DBC-457C-8E1A-4D34FBC5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5EA-F353-4B03-84DF-44D2B33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9760" y="640080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" y="6405120"/>
            <a:ext cx="4191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53040" y="64054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175F-3593-483E-AC10-29ADF24D21F7}" type="slidenum"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839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14800" y="64008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laus Schleis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533160" y="5335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3800" spc="-1" strike="noStrike">
                <a:solidFill>
                  <a:srgbClr val="000000"/>
                </a:solidFill>
                <a:latin typeface="Pcmet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Pcmeta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69339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ing Systems on Your Own Soft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lurr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rdware / Softwar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us.Schleisiek AT freenet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ww.microcor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red Programming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LWAYS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ZERO 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z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ZERO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z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IGN 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SIGN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VL 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CARRY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c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QOVL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?ov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 USR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ser_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2 uncommitted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plex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statu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RET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re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status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XC 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IMES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mes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( n-1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VER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_fla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flag offset -- offse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E54-3B7A-418B-A859-E931D00E95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uCore_do-design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1D7-6DCE-43FA-8FDC-50B3DCFB0B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uCore_instantiation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172200" cy="589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94E-9584-4088-AD05-A26419D9C2C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371600" y="1752480"/>
          <a:ext cx="8077320" cy="28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80773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 instantiation for Geolon-M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724280"/>
            <a:ext cx="79246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PGA Technology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636-642F-413D-8AEA-5AEA0DF34C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CS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153640" cy="56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71B-CF82-44F6-9947-34433974BE3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vent did happen that w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cted b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vent d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ppen that was hoped for b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98560" y="358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nterrupt and Exception Du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991-4BA5-47AB-B4ED-0CFB67BBDA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Services using Excep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Method using a Timer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ahead    ( ticks -- time.ahead )  Timer @ +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timeout? ( ticks -- ticks f )     dup Timer @ - 0&lt;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continue ( ticks -- )     BEGIN  pause timeout? UNTIL drop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sleep    ( ticks -- )     ahead continue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continue ( ticks -- )     Timer !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now we can afford sub millisecond resolution as w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F43-0929-4211-9365-C4AFA19E16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eudo D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ring 16 bit data between IDE interface and Buffe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PUSH USR Opcode: ide@  ( bufaddr -- bufaddr+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POP  USR Opcode: ide!  ( bufaddr -- bufaddr+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hese types of instructions can be iterated using TIM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FF times ide@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s a sector into the buffer at one transfer/cycle plus 3 cycles overhead. Repeated instructions are fully interruptible without lat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22E-423C-4737-BE5C-2376F6CA3D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8200" y="35892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Encoding and Buffering, soft encod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just appreciate its long winded complic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split  ( 32b -- l16b h16b ) dup $FFFF and swap u256/ u256/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wsplit ( 16b -- l8b h8b )   dup $FF and swap u256/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buf8! ( 8bit --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&gt;r idebuf_ptr @ 2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rry IF    ld swap r&gt; 256* or swap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LSE  r&gt; $FF and swap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debuf_ptr ld swap 1+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up [ #idebuf_top 2* ] literal u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 idebuf_flush drop #idebuf_addr 2*  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wap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buf16! ( 16bit -- ) wsplit buf8!  buf8! 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buf24! ( 24bit -- ) split  buf8!  buf16!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buf32! ( 32bit -- ) split  buf16! buf16!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abs  ( n -- u )   neg IF  0 swap-  THEN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encode ( sample channel# --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          \ val val 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ples +       \ val val add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d &gt;r swap r&gt; ! \ val old    store val in samples buff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-         \ val differ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up abs         \ val difference |difference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up $40 &lt;   IF drop $7f and buf8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rop EX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up $1000 &lt; IF drop $1FFF and $C000 or buf16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rop EX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80000 &lt;    IF $FFFFF and $E00000 or buf24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rop EX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rop $7FFFFFF and $F0000000 or buf32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773-A454-4E41-876F-A46DC11139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47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Encoding and Buffering, hardware suppor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POP  USR Opcode: buf8!   ( 8b --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POP  USR Opcode: buf16!  ( 16b --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NONE USR Opcode: buf24!  ( 24b -- 16b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NONE USR Opcode: buf32!  ( 32b -- 16b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CODE NONE ALU Opcode: tag  ( sample previous -- sample code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encode ( val ch# --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mples + ld &gt;r ta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rry IF  buf8!  ELSE  ovl IF  buf32!  THEN  buf16! 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&gt;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can be clocked at 1/4 speed, saving 20 m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de is also more understandable and therefore, reliable beyond doub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BF5-740F-4ACD-AAA5-5465678D1F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-Desig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bu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olon-MCS (a concrete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rupts and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cial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totyp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c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A7B-8711-4916-A385-A3730F346A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 Scal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data_width        : NATURAL := 32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data_addr_width   : NATURAL := 2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dcache_addr_width : NATURAL := 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prog_addr_width   : NATURAL := 19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pcache_addr_width : NATURAL := 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prog_ram_width    : NATURAL := 1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ds_addr_width     : NATURAL :=  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rs_addr_width     : NATURAL :=  8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tasks_addr_width  : NATURAL := 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interrupts        : NATURAL :=  2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788-39CA-4774-A8EF-4C39CE4DFC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100 Prototyping Boar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C2S200 FP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56k x 8 progra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56k x 32 data memory/return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USB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B configuration port (to be programme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bilica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en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ts of uncommitted I/O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FF0-1054-422F-BB19-70A2784B73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 Licens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Core Exploratory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quivalent terms to FreeB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y Business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yloring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ertifying compatibility with the origi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D3B-776D-4509-A799-CBE793CB6B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a Development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CC bac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or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B Programming Interface (805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o f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microcor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EF7-B5A8-4480-A747-E8322F7010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uCore_kernel" descr=""/>
          <p:cNvPicPr/>
          <p:nvPr/>
        </p:nvPicPr>
        <p:blipFill>
          <a:blip r:embed="rId1"/>
          <a:stretch/>
        </p:blipFill>
        <p:spPr>
          <a:xfrm>
            <a:off x="685800" y="663480"/>
            <a:ext cx="8686800" cy="56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9E1-C5F8-4D39-A0EB-524E629F5E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 Archite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a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th oriented instruction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efix Code (Transputer Sty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alable data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bject code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fter every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rdware mechanism for multi 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217-9409-434E-94C1-0E6D809779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VER  NONE BRA Op: no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T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ver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L 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*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SR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/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SR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2/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OR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OL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ZEQU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=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fla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C 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778-2830-437D-AC2E-26BE8AE0B8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inary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DD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+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DC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+n2+carr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UB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-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SUB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wap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2-n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ND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_and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_or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OR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_xor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DD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+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+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DC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+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+n2+carr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UB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-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SUB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swap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2-n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ND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an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_and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_or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OR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x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_xor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10C-9D80-4C5E-B442-753E501BE5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plex Math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ULT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ult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u1 u2 -- u1 u3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DIV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div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ud1 u2 -- u2 u3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DIV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div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u2 u3 -- u2 u3'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DIV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div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u2 u3 -- u2 u3'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c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UP 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n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QDUP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?du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n n | 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VER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WAP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2 n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S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ve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S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i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STACK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STACK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R  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@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R  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!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4B3-5CE0-4ADA-9BD6-AD6A682BC8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us@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statu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us!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status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SP  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sp@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rstack_addr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SP  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sp!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rstack_addr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SP  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sp@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dstack_ptr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SP  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sp!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dstack_ptr -- ?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 Memory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      PUS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l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addr -- n addr+i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      POP 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s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addr -- addr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CAL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ll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i -- n rstack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CAL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ls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i -- rstack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SK 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tl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i -- n task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SK 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ts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i -- task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DC7-4477-42AC-949A-B85B15BB93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LWAYS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ZERO 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z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flag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ZERO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z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flag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IGN 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SIGN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VL 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CARRY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c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LWAYS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ZERO 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z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ZERO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z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IGN 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SIGN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VL 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CARRY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c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CE2-EC64-4972-863A-FA680867F0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20:56:16Z</dcterms:created>
  <dc:creator>Klaus Schleisiek</dc:creator>
  <dc:description/>
  <dc:language>en-US</dc:language>
  <cp:lastModifiedBy>Klaus Schleisiek</cp:lastModifiedBy>
  <cp:lastPrinted>2000-11-26T18:54:22Z</cp:lastPrinted>
  <dcterms:modified xsi:type="dcterms:W3CDTF">2005-01-24T21:21:52Z</dcterms:modified>
  <cp:revision>68</cp:revision>
  <dc:subject/>
  <dc:title>Cored Programming</dc:title>
</cp:coreProperties>
</file>