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CB-5987-4BD2-AA7C-4A9A881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656-1A10-4CC1-B9C1-26A919B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637-98A2-4D30-B5EA-35B2CFE2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395-95F5-45B1-BE80-39226A85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8200" y="358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78F-4AAE-4829-A9AC-70948FE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E1C-0CB6-42B9-8BDC-3ED3F46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67B-6E96-4E2C-A913-B2CAB201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DDB-9C5D-4114-8861-1E94532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98200" y="358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308-8D98-4F03-B3D7-CA3E5066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377-D085-4D1B-948C-9F0FA1F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188-81B9-4529-BE1E-E79AA4F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70A-C403-4F89-B363-F6A5CA9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9760" y="64008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" y="64051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53040" y="64054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1BF4-7FC3-48FB-ACAB-CD7F8B27E550}" type="slidenum"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839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14800" y="6400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laus Schleis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5331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3800" spc="-1" strike="noStrike">
                <a:solidFill>
                  <a:srgbClr val="000000"/>
                </a:solidFill>
                <a:latin typeface="Pcmet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Pcmeta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ystems on Your Own Soft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rr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rdware / Softwar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us.Schleisiek AT freenet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ww.microcor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red Programmin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cal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OVL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?ov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USR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ser_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2 uncommitted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lex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statu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RET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re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status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XC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IMES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mes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( n-1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_fla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offset -- offse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4F6-1814-4BCF-B41F-AAF5C101A3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uCore_do-design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EFA-38BD-4B42-AC16-E5EE0D7285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Core_instantiation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172200" cy="589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F9C-5122-4A54-8F30-AD13B4EBB5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371600" y="1752480"/>
          <a:ext cx="8077320" cy="28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8077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instantiation for Geolon-M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724280"/>
            <a:ext cx="79246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PGA Technology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F0F-6327-4160-BCE1-3C5E00363D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CS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153640" cy="56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D35-68CF-4FE7-927C-2DFA1137B4F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did happen that w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cted b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d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 that was hoped for b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98560" y="358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terrupt and Exception Du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66D-BBDB-459C-9063-77D5292306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Services using Excep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Method using a Timer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ahead    ( ticks -- time.ahead )  Timer @ +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timeout? ( ticks -- ticks f )     dup Timer @ - 0&lt;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continue ( ticks -- )     BEGIN  pause timeout? UNTIL drop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leep    ( ticks -- )     ahead continue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continue ( ticks -- )     Timer !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now we can afford sub millisecond resolution as 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E8D-6F67-4468-8538-42C3F716CF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eudo D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ring 16 bit data between IDE interface and Buff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PUSH USR Opcode: ide@  ( bufaddr -- bufaddr+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POP  USR Opcode: ide!  ( bufaddr -- bufaddr+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hese types of instructions can be iterated using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FF times ide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s a sector into the buffer at one transfer/cycle plus 3 cycles overhead. Repeated instructions are fully interruptible without lat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481-6BBC-4B0D-882E-942310F934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8200" y="3589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Encoding and Buffering, soft encod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just appreciate its long winded complic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split  ( 32b -- l16b h16b ) dup $FFFF and swap u256/ u256/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wsplit ( 16b -- l8b h8b )   dup $FF and swap u256/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8! ( 8bit --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&gt;r idebuf_ptr @ 2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rry IF    ld swap r&gt; 256* or 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LSE  r&gt; $FF and 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debuf_ptr ld swap 1+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[ #idebuf_top 2* ] literal u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 idebuf_flush drop #idebuf_addr 2*  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wap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16! ( 16bit -- ) wsplit buf8!  buf8! 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24! ( 24bit -- ) split  buf8!  buf16!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buf32! ( 32bit -- ) split  buf16! buf16!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abs  ( n -- u )   neg IF  0 swap-  THEN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: encode ( sample channel# --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          \ val val 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ples +       \ val val add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d &gt;r swap r&gt; ! \ val old    store val in samples buff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-         \ val differ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abs         \ val difference |difference|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$40 &lt;   IF drop $7f and buf8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up $1000 &lt; IF drop $1FFF and $C000 or buf16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80000 &lt;    IF $FFFFF and $E00000 or buf24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EX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rop $7FFFFFF and $F0000000 or buf32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F16-F7DE-4B1E-9EA6-5C5D260A0E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47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Encoding and Buffering, hardware suppor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POP  USR Opcode: buf8!   ( 8b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POP  USR Opcode: buf16!  ( 16b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NONE USR Opcode: buf24!  ( 24b -- 16b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NONE USR Opcode: buf32!  ( 32b -- 16b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CODE NONE ALU Opcode: tag  ( sample previous -- sample code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encode ( val ch# --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mples + ld &gt;r ta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rry IF  buf8!  ELSE  ovl IF  buf32!  THEN  buf16! 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&gt;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can be clocked at 1/4 speed, saving 20 m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de is also more understandable and therefore, reliable beyond doub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D32-DB60-4E2B-8667-A5B120985C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-Desig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bu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olon-MCS (a concrete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rupts and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cial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totyp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29C-597B-4E77-9768-40F3D65F3E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Scal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ata_width        : NATURAL := 3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ata_addr_width   : NATURAL := 2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cache_addr_width : NATURAL := 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rog_addr_width   : NATURAL := 19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cache_addr_width : NATURAL := 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prog_ram_width    : NATURAL := 1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ds_addr_width     : NATURAL :=  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rs_addr_width     : NATURAL :=  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tasks_addr_width  : NATURAL := 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NSTANT interrupts        : NATURAL :=  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7BF-3BAB-47EB-B823-03120007D2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100 Prototyping Bo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C2S200 FP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56k x 8 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56k x 32 data memory/return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B configuration port (to be programme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bilica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en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ts of uncommitted I/O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CAD-7DF5-42D7-BB89-61D5A8869D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Licens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Core Exploratory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quivalent terms to FreeB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y Business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yloring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ertifying compatibility with the origi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03C-EDD8-418B-8E22-9CA90A69C5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a Developmen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C bac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B Programming Interface (805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o f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microcor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73F-D383-49A6-9DD6-C553320807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uCore_kernel" descr=""/>
          <p:cNvPicPr/>
          <p:nvPr/>
        </p:nvPicPr>
        <p:blipFill>
          <a:blip r:embed="rId1"/>
          <a:stretch/>
        </p:blipFill>
        <p:spPr>
          <a:xfrm>
            <a:off x="685800" y="663480"/>
            <a:ext cx="8686800" cy="56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1E0-9E73-44B1-AF04-EE32E8F099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Core Archit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a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th oriented instruction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fix Code (Transputer Sty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alable data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bject code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fter every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rdware mechanism for multi 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1DE-95CC-4CFF-8588-50A1D0C5F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NONE BRA Op: no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ver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L 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*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S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/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S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2/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OR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OL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QU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=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-- fla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C     BOT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171-593A-40B8-985F-C8FF28A473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nary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D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+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C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+n2+carr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-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SUB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ap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-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D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and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OR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_x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D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+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+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DC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+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+n2+carr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-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SUB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swap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2-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D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an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and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OR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dup xo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_xor_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07E-5A10-43C9-AF18-A8863BA209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lex Math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ULT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ult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1 u2 -- u1 u3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0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d1 u2 -- u2 u3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2 u3 -- u2 u3'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DIV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iv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u2 u3 -- u2 u3'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c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UP 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n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QDUP   PUS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?d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n n |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VER  BOTH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WAPS  NONE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 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S    PUSH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ve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1 n2 n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S    POP  ALU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i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1 n2 -- n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TACK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TACK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R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R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BD2-DCCB-4259-A50B-D8D6F7C16F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us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statu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us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status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P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sp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rstack_add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SP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sp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rstack_addr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SP 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sp@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dstack_pt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SP 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sp!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dstack_ptr -- ?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Memory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     PUS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addr -- n addr+i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      POP 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addr -- addr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CAL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i -- n rstac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CAL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l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i -- rstac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SK   BOTH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tl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i -- n tas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SK   NONE MEM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+t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n i -- task+i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D4-E9B0-449A-8243-7ECDAB3FF4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8200" y="35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Core 1.20 Opcodes by Functi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flag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NONE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exi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LWAYS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ZERO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z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ZERO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z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IGN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SIGN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VL  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ARRY POP  BRA Op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c-bran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 offset -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7B3-52A9-4659-AF1B-2416307784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C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20:56:16Z</dcterms:created>
  <dc:creator>Klaus Schleisiek</dc:creator>
  <dc:description/>
  <dc:language>en-US</dc:language>
  <cp:lastModifiedBy>Klaus Schleisiek</cp:lastModifiedBy>
  <cp:lastPrinted>2000-11-26T18:54:22Z</cp:lastPrinted>
  <dcterms:modified xsi:type="dcterms:W3CDTF">2005-01-24T21:21:52Z</dcterms:modified>
  <cp:revision>68</cp:revision>
  <dc:subject/>
  <dc:title>Cored Programming</dc:title>
</cp:coreProperties>
</file>