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A6E-0B4D-4564-9D4E-6294ABAA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023-E7E7-466A-BDAC-AEA765B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0EC-5532-4ED3-9B68-E9787D6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4B9-DA94-4813-8AA0-E535C056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8D3-CE0C-4A39-8E99-DC5F486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7E5-2B62-4DAB-B6DC-3ECC056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F17-2AA3-4E3E-BA8A-226B821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A61-1382-4E56-B0C2-4D0127E0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66E-20A3-41AF-8C21-4B4D993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C7A-E991-4316-8E6A-CDAFBA1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F7B-AF55-429C-A17E-B8C25A3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E3E-CDA3-459A-BDC4-060A57E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9B5-0E44-4885-BE96-B48A6108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IGH DEFINI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 the visual arti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56000" y="476280"/>
            <a:ext cx="22320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TS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D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429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ormat definition 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20x576 pix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frame 414.72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gressive or inter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2:0 -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orded on MiniDV @ 25Mbi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PEG-2-I-Frame-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ormat definiton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280x720 or 1440x108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frame 921.600 or 1.555.200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20p or 1080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:2:0 –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6: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orded on MiniDV @ 19 or 25 Mbi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PEG-2-Video (MP@H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 of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t´s „cheap“ compared to broadcast HD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DV equipment is compatible to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 don´t need special editing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 editing programs will be able to edit H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erb image quality when projected on big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 of H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w projection and presentation equipment is needed (expen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 the moment it´s not possible with a normal budget to mix two HDV videos from a V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 need very high processor power to use HDV material for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ly Resolume is able to playback HDV video (at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act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 further info and experi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0000"/>
                </a:solidFill>
                <a:latin typeface="Arial"/>
              </a:rPr>
              <a:t>www.hdv.t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8:24:12Z</dcterms:created>
  <dc:creator>Gery</dc:creator>
  <dc:description/>
  <dc:language>en-US</dc:language>
  <cp:lastModifiedBy>Gery</cp:lastModifiedBy>
  <dcterms:modified xsi:type="dcterms:W3CDTF">2004-12-29T09:20:31Z</dcterms:modified>
  <cp:revision>9</cp:revision>
  <dc:subject/>
  <dc:title>HIGH DEFNITION VIDEO</dc:title>
</cp:coreProperties>
</file>