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FE2-A4BC-4B70-A5F7-0CDD1FE1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0BE-477A-452F-A2C2-871A8B63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EB1-6DA2-4A91-952B-37C47D70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4EC-D630-4625-85F8-5E634499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27A-BFA7-4CF7-B248-B99EC14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BFF-7B6D-41A3-8244-A398188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69E-BD86-4B20-A995-D6B4486E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9A4-16A7-417D-8ADA-ECD0F66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17B-38DD-40DA-8959-5497EDD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9B4-CE6F-419C-8F9D-07E7E1F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F3B-7BA0-4BD2-B357-9403150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8B5-38BF-435A-8F13-22CFC40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03A-19B1-46A3-B5EC-581ABCF8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IGH DEFINI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 the visual arti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56000" y="476280"/>
            <a:ext cx="22320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TS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D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429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ormat definition 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20x576 pix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frame 414.72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gressive or inter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2:0 -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orded on MiniDV @ 25Mbi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PEG-2-I-Frame-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ormat definiton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280x720 or 1440x108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frame 921.600 or 1.555.20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20p or 1080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2:0 –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6: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orded on MiniDV @ 19 or 25 Mbi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PEG-2-Video (MP@H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 of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t´s „cheap“ compared to broadcast HD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DV equipment is compatible to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 don´t need special editing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 editing programs will be able to edit H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erb image quality when projected on big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 of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w projection and presentation equipment is needed (expen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 the moment it´s not possible with a normal budget to mix two HDV videos from a V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 need very high processor power to use HDV material for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y Resolume is able to playback HDV video (at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act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 further info and experi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0000"/>
                </a:solidFill>
                <a:latin typeface="Arial"/>
              </a:rPr>
              <a:t>www.hdv.t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8:24:12Z</dcterms:created>
  <dc:creator>Gery</dc:creator>
  <dc:description/>
  <dc:language>en-US</dc:language>
  <cp:lastModifiedBy>Gery</cp:lastModifiedBy>
  <dcterms:modified xsi:type="dcterms:W3CDTF">2004-12-29T09:20:31Z</dcterms:modified>
  <cp:revision>9</cp:revision>
  <dc:subject/>
  <dc:title>HIGH DEFNITION VIDEO</dc:title>
</cp:coreProperties>
</file>