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72CB-BB4A-4F67-B293-5A3DDCC3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3244-5C4B-436B-8179-9A399398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4D24-0A0D-47A5-8763-2C27A6CF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67FA-E788-4B87-8419-B82E504A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46825-142F-4D2C-93FC-2B4C9DAD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20946-6DB6-42D5-B82F-3791ED1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D2663-7095-41A8-A95B-B3F62EC7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409F2-9490-4C33-AD41-0DD5918D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14C69-2B96-40C1-9AA8-5B8A34E5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718E-2E0C-4C49-A3B2-4365B329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CF0B5-FA29-4823-9AEA-B677312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B373-30F0-45FE-92B1-8731216C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00D3-F5EA-4955-BFAE-371654D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7B9CD-C915-4A7B-AEA1-9A1D918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335A6-87A6-4B6F-9757-1692AB1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38A8B-0E00-4183-8DA2-DC724F0B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A9646-2B11-4761-857D-4591D898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1DA1-91FF-45BF-9E86-8EDB976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0FF8-B37D-4D64-9956-171C8A3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020A-BECE-4799-AE19-BFA5139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6F95-08DF-41E5-8D1D-0AE1951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7D3D-BFD4-4ABD-8755-667F80F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E4ED-57F4-477C-BFB0-848DEFA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A989-1FA6-43D8-B721-D2A2FDDB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828080"/>
            <a:ext cx="8076960" cy="4801320"/>
            <a:chOff x="762120" y="1828080"/>
            <a:chExt cx="8076960" cy="4801320"/>
          </a:xfrm>
        </p:grpSpPr>
        <p:sp>
          <p:nvSpPr>
            <p:cNvPr id="1" name=""/>
            <p:cNvSpPr/>
            <p:nvPr/>
          </p:nvSpPr>
          <p:spPr>
            <a:xfrm>
              <a:off x="762120" y="1828800"/>
              <a:ext cx="8076960" cy="480060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rot="16200000">
              <a:off x="-1485720" y="4228920"/>
              <a:ext cx="4572000" cy="75960"/>
            </a:xfrm>
            <a:custGeom>
              <a:avLst/>
              <a:gdLst>
                <a:gd name="textAreaLeft" fmla="*/ 1194120 w 4572000"/>
                <a:gd name="textAreaRight" fmla="*/ 3377880 w 45720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6476400" y="4190760"/>
              <a:ext cx="4647960" cy="75960"/>
            </a:xfrm>
            <a:custGeom>
              <a:avLst/>
              <a:gdLst>
                <a:gd name="textAreaLeft" fmla="*/ 1213920 w 4647960"/>
                <a:gd name="textAreaRight" fmla="*/ 3434040 w 4647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5400000">
              <a:off x="4724280" y="-213444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2120" y="380880"/>
            <a:ext cx="8076960" cy="1143000"/>
            <a:chOff x="762120" y="380880"/>
            <a:chExt cx="8076960" cy="1143000"/>
          </a:xfrm>
        </p:grpSpPr>
        <p:sp>
          <p:nvSpPr>
            <p:cNvPr id="6" name=""/>
            <p:cNvSpPr/>
            <p:nvPr/>
          </p:nvSpPr>
          <p:spPr>
            <a:xfrm>
              <a:off x="762120" y="380880"/>
              <a:ext cx="8076960" cy="1143000"/>
            </a:xfrm>
            <a:prstGeom prst="roundRect">
              <a:avLst>
                <a:gd name="adj" fmla="val 12083"/>
              </a:avLst>
            </a:prstGeom>
            <a:gradFill rotWithShape="0">
              <a:gsLst>
                <a:gs pos="0">
                  <a:srgbClr val="b1c99c"/>
                </a:gs>
                <a:gs pos="100000">
                  <a:srgbClr val="98ac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5400000">
              <a:off x="4724280" y="-3581280"/>
              <a:ext cx="152640" cy="807696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52280" y="6172200"/>
            <a:ext cx="457200" cy="380880"/>
            <a:chOff x="152280" y="6172200"/>
            <a:chExt cx="457200" cy="380880"/>
          </a:xfrm>
        </p:grpSpPr>
        <p:sp>
          <p:nvSpPr>
            <p:cNvPr id="9" name=""/>
            <p:cNvSpPr/>
            <p:nvPr/>
          </p:nvSpPr>
          <p:spPr>
            <a:xfrm>
              <a:off x="152280" y="617220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32448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6477120"/>
              <a:ext cx="457200" cy="7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ftr" idx="1"/>
          </p:nvPr>
        </p:nvSpPr>
        <p:spPr>
          <a:xfrm>
            <a:off x="2133360" y="6248520"/>
            <a:ext cx="52578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2"/>
          </p:nvPr>
        </p:nvSpPr>
        <p:spPr>
          <a:xfrm>
            <a:off x="7467120" y="6308280"/>
            <a:ext cx="1219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8D74-2760-4437-86F6-E0BC582DE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3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8A94-4EFA-4BB3-9553-2733BE13EB84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914400" y="6019920"/>
            <a:ext cx="7772400" cy="304560"/>
            <a:chOff x="914400" y="6019920"/>
            <a:chExt cx="7772400" cy="304560"/>
          </a:xfrm>
        </p:grpSpPr>
        <p:sp>
          <p:nvSpPr>
            <p:cNvPr id="17" name=""/>
            <p:cNvSpPr/>
            <p:nvPr/>
          </p:nvSpPr>
          <p:spPr>
            <a:xfrm>
              <a:off x="914400" y="617220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8238960" y="6172200"/>
              <a:ext cx="262080" cy="152280"/>
              <a:chOff x="8238960" y="6172200"/>
              <a:chExt cx="262080" cy="152280"/>
            </a:xfrm>
          </p:grpSpPr>
          <p:sp>
            <p:nvSpPr>
              <p:cNvPr id="19" name=""/>
              <p:cNvSpPr/>
              <p:nvPr/>
            </p:nvSpPr>
            <p:spPr>
              <a:xfrm>
                <a:off x="8238960" y="630648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07360" y="627372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77560" y="622260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48120" y="617220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8120160" y="617220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8577360" y="6019920"/>
              <a:ext cx="109440" cy="304560"/>
              <a:chOff x="8577360" y="6019920"/>
              <a:chExt cx="109440" cy="304560"/>
            </a:xfrm>
          </p:grpSpPr>
          <p:sp>
            <p:nvSpPr>
              <p:cNvPr id="25" name=""/>
              <p:cNvSpPr/>
              <p:nvPr/>
            </p:nvSpPr>
            <p:spPr>
              <a:xfrm>
                <a:off x="8577360" y="6019920"/>
                <a:ext cx="109440" cy="30456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77360" y="617220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PlaceHolder 5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29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62120" y="304200"/>
            <a:ext cx="8076960" cy="6325200"/>
            <a:chOff x="762120" y="304200"/>
            <a:chExt cx="8076960" cy="6325200"/>
          </a:xfrm>
        </p:grpSpPr>
        <p:sp>
          <p:nvSpPr>
            <p:cNvPr id="69" name=""/>
            <p:cNvSpPr/>
            <p:nvPr/>
          </p:nvSpPr>
          <p:spPr>
            <a:xfrm>
              <a:off x="762120" y="304920"/>
              <a:ext cx="8076960" cy="632448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5400000">
              <a:off x="4724280" y="-365832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-2171520" y="3390840"/>
              <a:ext cx="5943600" cy="75960"/>
            </a:xfrm>
            <a:custGeom>
              <a:avLst/>
              <a:gdLst>
                <a:gd name="textAreaLeft" fmla="*/ 1552320 w 5943600"/>
                <a:gd name="textAreaRight" fmla="*/ 4391280 w 59436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5904720" y="3390840"/>
              <a:ext cx="5790960" cy="75960"/>
            </a:xfrm>
            <a:custGeom>
              <a:avLst/>
              <a:gdLst>
                <a:gd name="textAreaLeft" fmla="*/ 1512720 w 5790960"/>
                <a:gd name="textAreaRight" fmla="*/ 4278240 w 5790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74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617220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32448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477120"/>
            <a:ext cx="45720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4"/>
          </p:nvPr>
        </p:nvSpPr>
        <p:spPr>
          <a:xfrm>
            <a:off x="2133360" y="6244920"/>
            <a:ext cx="5257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543440" y="6244920"/>
            <a:ext cx="11430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5BE-F771-4A28-853E-1CA1D96C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D518-0ED9-47BE-A5F0-9AE82FF226B6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3733920"/>
            <a:ext cx="7848720" cy="2438280"/>
            <a:chOff x="914400" y="3733920"/>
            <a:chExt cx="7848720" cy="2438280"/>
          </a:xfrm>
        </p:grpSpPr>
        <p:sp>
          <p:nvSpPr>
            <p:cNvPr id="85" name=""/>
            <p:cNvSpPr/>
            <p:nvPr/>
          </p:nvSpPr>
          <p:spPr>
            <a:xfrm>
              <a:off x="914400" y="3733920"/>
              <a:ext cx="784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238960" y="6019920"/>
              <a:ext cx="262080" cy="152280"/>
              <a:chOff x="8238960" y="6019920"/>
              <a:chExt cx="262080" cy="152280"/>
            </a:xfrm>
          </p:grpSpPr>
          <p:sp>
            <p:nvSpPr>
              <p:cNvPr id="87" name=""/>
              <p:cNvSpPr/>
              <p:nvPr/>
            </p:nvSpPr>
            <p:spPr>
              <a:xfrm>
                <a:off x="8238960" y="615420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07360" y="612144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77560" y="607032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48120" y="601992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1201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577360" y="5867280"/>
              <a:ext cx="109440" cy="304920"/>
              <a:chOff x="8577360" y="5867280"/>
              <a:chExt cx="109440" cy="304920"/>
            </a:xfrm>
          </p:grpSpPr>
          <p:sp>
            <p:nvSpPr>
              <p:cNvPr id="93" name=""/>
              <p:cNvSpPr/>
              <p:nvPr/>
            </p:nvSpPr>
            <p:spPr>
              <a:xfrm>
                <a:off x="8577360" y="5867280"/>
                <a:ext cx="109440" cy="30492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77360" y="60199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 Big T(r)ollCollect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C ERFA Ulm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ostreff Bad Waldse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balt, copton, fd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533520"/>
            <a:ext cx="2844720" cy="12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43000" y="533520"/>
            <a:ext cx="127008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A78CE317-BEAA-445D-AEFE-B2441E16E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it und ohne OB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sonalisi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 Minuten Schulungs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 Semester Verwaltungswiss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gebnis: T(r)ollCollect personalisiert lieber sel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t 800.000^W500.000 jetzt 250.000 OB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her ohne 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E2BF41-0B58-46A2-BA15-293F2EB9A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ternet und Termin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uchung per Internet ganz, ganz einf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jeder Tankstelle Mautterminals zum manuellen Bu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 Rumänisch. Gr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dürfen wir nicht laut Vertrag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el Spaß den T(r)ollCollect-Supporte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B417B-39E3-4931-B09E-51FD1132CF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der Erfo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 Mia. Mauteinnahmen im Haush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assungswidrig oh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klappt jetzt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estimm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m 1.1.!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icht des Rechnungshofes nur gegen NDA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aber auch eine gute Nachri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B8F22-0AA9-4F7B-8C7B-C776E5BA55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Verkehrsüberwachung jetz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st nur LKW werden überwach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ßer: Verdacht auf Terroris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Verdächtigen werden natürlich auch PKW überwacht!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utbrücken haben sonst keinen Zw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56B568-980F-4779-93CF-274E96718A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in gutes Neu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nigstens ein Teil von T(r)ollCollect funktion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 gutes Neues wünsc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ostreff Bad Waldsee und CCC ERFA Ul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62320" y="5334120"/>
            <a:ext cx="2844720" cy="1299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12697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45849D-001A-494A-9D15-DAA0738AF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Die Verga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sschreibung mit Vertragsstrafen ab dem ersten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LA raus - billig kann je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(r)ollCollect kriegt‘s ohne Vertragsstra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daphone/Siemens kl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igung: jeder kriegt was 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300197-D0DD-4127-B707-191D8DF5D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der Vert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17.000 S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sind etwa 34 Aktenord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ddams Bericht an die UNO: 11.000 S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rag auch gegenüber Bundestag gehe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 in die schöne Schwei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el und nicht Züri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el-Land oder Basel-Stad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h was soll‘s, für die Presse halt noch 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EE2EB8-6A9E-4395-BCE7-B3E646C6A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ltweit führende Techni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wicklungskos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.000.000 bis 1.000.000.000 EUR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100.000,- EUR p.a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000 bis 10.000 Personenjah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460681-9FBB-4805-85D8-BA45AA0889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ltweit führende Technik!!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Satelliten kommen von den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eincomputer (gibt‘s fertig zu kauf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ssystem 10 Personenjah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rechnungssoftware 20 P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utterminals in Tankstellen (POS) 5 PJ?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bauftritt (100 Mio. EUR, siehe Arbeitsam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kehrs-Überwachungssystem (Rest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6DE1FF-1BF0-4D5B-9092-7B121B67A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ührend!!1!1ein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rarot zur Kommunikation mit O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ögliche Schwierigkeiten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R geht nicht durch Was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R geht nicht durch Schmutz.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lück im Unglück: nur die Mautkontrolle ist betroff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51452F-6DFE-4613-A754-F8B8B3916B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ÜHREND!!1!einself!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line Softwareupd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der nicht für das Tarifmod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utpreise können grade nicht geändert werden. Schade eigentlich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by: 2A. Betrieb: 4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S muss &lt;10m genau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st es laut Amis zu 9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n kein Krieg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DBD338-7FFB-46B0-B659-A4A4E140F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Betriebskos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tzt nur noch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20% vom Umsatz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um Vergle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eiz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ankreich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manueller Erfassung mit tausenden von Arbeitsplät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ECCA38-211B-4163-8896-AA34FFD7B4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: geniales Desig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se Preise wurden möglich du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MS statt GP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trem schnelle und zuverlässige Entwickl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onders geschickte Vertragsverhandl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D685D8-BE5B-448B-83DE-BB89755E30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11:36Z</dcterms:created>
  <dc:creator>Volker Birk</dc:creator>
  <dc:description/>
  <dc:language>en-US</dc:language>
  <cp:lastModifiedBy>Volker Birk</cp:lastModifiedBy>
  <cp:lastPrinted>1904-01-01T00:00:00Z</cp:lastPrinted>
  <dcterms:modified xsi:type="dcterms:W3CDTF">2004-12-29T09:33:02Z</dcterms:modified>
  <cp:revision>65</cp:revision>
  <dc:subject/>
  <dc:title>The Big T(r)ollCollect Show</dc:title>
</cp:coreProperties>
</file>