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63A1-F02B-4D81-A531-D6B8BB25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CA5F-5E18-40C1-B6D8-1C40B1E8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980F-3E4A-4A33-B134-6AFACB60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42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00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542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700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BAEB-4E72-48E3-A71A-9F227282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B2FDB-3DF0-4C0D-8953-F8DC11C5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FE62A-A1F2-428D-8C14-F4431919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68C81-76BA-4C22-AE8E-7C31FFBB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44121-1EF8-4736-BD70-00A1ED64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0CF67-376B-4521-B040-837EE9C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7E8A9-A3B4-44F1-9517-16066B13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05EB4-1098-475F-8D17-E1E900E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7D62-F43D-4007-9D5F-9B5B4E63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BA60C-58F5-4E7E-AEE3-EBF7AB08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23DEE-E2FC-4DA4-9CC0-AB2424F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F2D7-6C40-4653-ADA8-716EEB88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0456B-E1B0-4E35-B79A-16091180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FF457-DB63-43E8-B897-7B34415A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6D8E-CAEF-40C5-9B32-EF66CF3A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CD1F-3F6E-4109-8D09-BC130CEC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BB05-80B1-4682-85C7-F61EE0DF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B8E1-21FF-4A31-80CA-157ADB31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2A97E-9E2F-4D82-BF0B-6A3D038F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C30A-921A-40C9-89DA-AC597B51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2189-3FA0-49E3-ADE2-B140D2A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828080"/>
            <a:ext cx="8076960" cy="4801320"/>
            <a:chOff x="762120" y="1828080"/>
            <a:chExt cx="8076960" cy="4801320"/>
          </a:xfrm>
        </p:grpSpPr>
        <p:sp>
          <p:nvSpPr>
            <p:cNvPr id="1" name=""/>
            <p:cNvSpPr/>
            <p:nvPr/>
          </p:nvSpPr>
          <p:spPr>
            <a:xfrm>
              <a:off x="762120" y="1828800"/>
              <a:ext cx="8076960" cy="480060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rot="16200000">
              <a:off x="-1485720" y="4228920"/>
              <a:ext cx="4572000" cy="75960"/>
            </a:xfrm>
            <a:custGeom>
              <a:avLst/>
              <a:gdLst>
                <a:gd name="textAreaLeft" fmla="*/ 1194120 w 4572000"/>
                <a:gd name="textAreaRight" fmla="*/ 3377880 w 457200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15c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6476400" y="4190760"/>
              <a:ext cx="4647960" cy="75960"/>
            </a:xfrm>
            <a:custGeom>
              <a:avLst/>
              <a:gdLst>
                <a:gd name="textAreaLeft" fmla="*/ 1213920 w 4647960"/>
                <a:gd name="textAreaRight" fmla="*/ 3434040 w 464796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5400000">
              <a:off x="4724280" y="-213444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2120" y="380880"/>
            <a:ext cx="8076960" cy="1143000"/>
            <a:chOff x="762120" y="380880"/>
            <a:chExt cx="8076960" cy="1143000"/>
          </a:xfrm>
        </p:grpSpPr>
        <p:sp>
          <p:nvSpPr>
            <p:cNvPr id="6" name=""/>
            <p:cNvSpPr/>
            <p:nvPr/>
          </p:nvSpPr>
          <p:spPr>
            <a:xfrm>
              <a:off x="762120" y="380880"/>
              <a:ext cx="8076960" cy="1143000"/>
            </a:xfrm>
            <a:prstGeom prst="roundRect">
              <a:avLst>
                <a:gd name="adj" fmla="val 12083"/>
              </a:avLst>
            </a:prstGeom>
            <a:gradFill rotWithShape="0">
              <a:gsLst>
                <a:gs pos="0">
                  <a:srgbClr val="b1c99c"/>
                </a:gs>
                <a:gs pos="100000">
                  <a:srgbClr val="98ac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5400000">
              <a:off x="4724280" y="-3581280"/>
              <a:ext cx="152640" cy="807696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152280" y="6172200"/>
            <a:ext cx="457200" cy="380880"/>
            <a:chOff x="152280" y="6172200"/>
            <a:chExt cx="457200" cy="380880"/>
          </a:xfrm>
        </p:grpSpPr>
        <p:sp>
          <p:nvSpPr>
            <p:cNvPr id="9" name=""/>
            <p:cNvSpPr/>
            <p:nvPr/>
          </p:nvSpPr>
          <p:spPr>
            <a:xfrm>
              <a:off x="152280" y="617220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2280" y="632448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6477120"/>
              <a:ext cx="457200" cy="7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ftr" idx="1"/>
          </p:nvPr>
        </p:nvSpPr>
        <p:spPr>
          <a:xfrm>
            <a:off x="2133360" y="6248520"/>
            <a:ext cx="52578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2"/>
          </p:nvPr>
        </p:nvSpPr>
        <p:spPr>
          <a:xfrm>
            <a:off x="7467120" y="6308280"/>
            <a:ext cx="1219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DEE-3B2F-46F2-AA4B-96284803C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3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D9A4-6EDA-4C80-B77A-5154C2484494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914400" y="6019920"/>
            <a:ext cx="7772400" cy="304560"/>
            <a:chOff x="914400" y="6019920"/>
            <a:chExt cx="7772400" cy="304560"/>
          </a:xfrm>
        </p:grpSpPr>
        <p:sp>
          <p:nvSpPr>
            <p:cNvPr id="17" name=""/>
            <p:cNvSpPr/>
            <p:nvPr/>
          </p:nvSpPr>
          <p:spPr>
            <a:xfrm>
              <a:off x="914400" y="617220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8238960" y="6172200"/>
              <a:ext cx="262080" cy="152280"/>
              <a:chOff x="8238960" y="6172200"/>
              <a:chExt cx="262080" cy="152280"/>
            </a:xfrm>
          </p:grpSpPr>
          <p:sp>
            <p:nvSpPr>
              <p:cNvPr id="19" name=""/>
              <p:cNvSpPr/>
              <p:nvPr/>
            </p:nvSpPr>
            <p:spPr>
              <a:xfrm>
                <a:off x="8238960" y="630648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07360" y="627372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77560" y="622260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448120" y="617220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"/>
            <p:cNvSpPr/>
            <p:nvPr/>
          </p:nvSpPr>
          <p:spPr>
            <a:xfrm>
              <a:off x="8120160" y="617220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" name=""/>
            <p:cNvGrpSpPr/>
            <p:nvPr/>
          </p:nvGrpSpPr>
          <p:grpSpPr>
            <a:xfrm>
              <a:off x="8577360" y="6019920"/>
              <a:ext cx="109440" cy="304560"/>
              <a:chOff x="8577360" y="6019920"/>
              <a:chExt cx="109440" cy="304560"/>
            </a:xfrm>
          </p:grpSpPr>
          <p:sp>
            <p:nvSpPr>
              <p:cNvPr id="25" name=""/>
              <p:cNvSpPr/>
              <p:nvPr/>
            </p:nvSpPr>
            <p:spPr>
              <a:xfrm>
                <a:off x="8577360" y="6019920"/>
                <a:ext cx="109440" cy="30456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77360" y="6172200"/>
                <a:ext cx="109440" cy="151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" name="PlaceHolder 5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29" name="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762120" y="304200"/>
            <a:ext cx="8076960" cy="6325200"/>
            <a:chOff x="762120" y="304200"/>
            <a:chExt cx="8076960" cy="6325200"/>
          </a:xfrm>
        </p:grpSpPr>
        <p:sp>
          <p:nvSpPr>
            <p:cNvPr id="69" name=""/>
            <p:cNvSpPr/>
            <p:nvPr/>
          </p:nvSpPr>
          <p:spPr>
            <a:xfrm>
              <a:off x="762120" y="304920"/>
              <a:ext cx="8076960" cy="632448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5400000">
              <a:off x="4724280" y="-365832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-2171520" y="3390840"/>
              <a:ext cx="5943600" cy="75960"/>
            </a:xfrm>
            <a:custGeom>
              <a:avLst/>
              <a:gdLst>
                <a:gd name="textAreaLeft" fmla="*/ 1552320 w 5943600"/>
                <a:gd name="textAreaRight" fmla="*/ 4391280 w 594360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15c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5904720" y="3390840"/>
              <a:ext cx="5790960" cy="75960"/>
            </a:xfrm>
            <a:custGeom>
              <a:avLst/>
              <a:gdLst>
                <a:gd name="textAreaLeft" fmla="*/ 1512720 w 5790960"/>
                <a:gd name="textAreaRight" fmla="*/ 4278240 w 579096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74" name="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617220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32448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477120"/>
            <a:ext cx="457200" cy="7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4"/>
          </p:nvPr>
        </p:nvSpPr>
        <p:spPr>
          <a:xfrm>
            <a:off x="2133360" y="6244920"/>
            <a:ext cx="52578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543440" y="6244920"/>
            <a:ext cx="11430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5E81-057E-43BF-95D5-4486F5A3A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46F8-B937-4EA5-A4BF-5B9D69FC1D0E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3733920"/>
            <a:ext cx="7848720" cy="2438280"/>
            <a:chOff x="914400" y="3733920"/>
            <a:chExt cx="7848720" cy="2438280"/>
          </a:xfrm>
        </p:grpSpPr>
        <p:sp>
          <p:nvSpPr>
            <p:cNvPr id="85" name=""/>
            <p:cNvSpPr/>
            <p:nvPr/>
          </p:nvSpPr>
          <p:spPr>
            <a:xfrm>
              <a:off x="914400" y="3733920"/>
              <a:ext cx="784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238960" y="6019920"/>
              <a:ext cx="262080" cy="152280"/>
              <a:chOff x="8238960" y="6019920"/>
              <a:chExt cx="262080" cy="152280"/>
            </a:xfrm>
          </p:grpSpPr>
          <p:sp>
            <p:nvSpPr>
              <p:cNvPr id="87" name=""/>
              <p:cNvSpPr/>
              <p:nvPr/>
            </p:nvSpPr>
            <p:spPr>
              <a:xfrm>
                <a:off x="8238960" y="615420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07360" y="612144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77560" y="607032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448120" y="601992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120160" y="601992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577360" y="5867280"/>
              <a:ext cx="109440" cy="304920"/>
              <a:chOff x="8577360" y="5867280"/>
              <a:chExt cx="109440" cy="304920"/>
            </a:xfrm>
          </p:grpSpPr>
          <p:sp>
            <p:nvSpPr>
              <p:cNvPr id="93" name=""/>
              <p:cNvSpPr/>
              <p:nvPr/>
            </p:nvSpPr>
            <p:spPr>
              <a:xfrm>
                <a:off x="8577360" y="5867280"/>
                <a:ext cx="109440" cy="30492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577360" y="601992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he Big T(r)ollCollect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C ERFA Ulm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ostreff Bad Waldse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balt, copton, fd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1320" y="533520"/>
            <a:ext cx="2844720" cy="12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43000" y="533520"/>
            <a:ext cx="127008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AA51BE07-16EE-4E1F-9CD3-AC134EF3FC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it und ohne OB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sonalisier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0 Minuten Schulungsvi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 Semester Verwaltungswiss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gebnis: T(r)ollCollect personalisiert lieber sel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t 800.000^W500.000 jetzt 250.000 OB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her ohne O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D78929-2AFE-4868-A697-0834CE89B3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ternet und Termin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buchung per Internet ganz, ganz einf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jeder Tankstelle Mautterminals zum manuellen Bu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 Rumänisch. Gr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dürfen wir nicht laut Vertrag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iel Spaß den T(r)ollCollect-Supporte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0F93DB-9B2F-443C-81C3-F3AAC85B82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 - der Erfo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5 Mia. Mauteinnahmen im Haush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fassungswidrig oh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klappt jetzt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estimm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m 1.1.!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icht des Rechnungshofes nur gegen NDA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aber auch eine gute Nachri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D52770-B3F3-47C0-B031-823DEEEC9A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Verkehrsüberwachung jetz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st nur LKW werden überwach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ßer: Verdacht auf Terrorism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Verdächtigen werden natürlich auch PKW überwacht!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utbrücken haben sonst keinen Zwe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B9C389-EEDD-4052-AC20-4DA630900A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in gutes Neu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nigstens ein Teil von T(r)ollCollect funktion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 gutes Neues wünsc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ostreff Bad Waldsee und CCC ERFA Ul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362320" y="5334120"/>
            <a:ext cx="2844720" cy="1299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126972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38C191-1A0F-4998-B124-FE8583964A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 - Die Vergab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sschreibung mit Vertragsstrafen ab dem ersten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ELA raus - billig kann je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(r)ollCollect kriegt‘s ohne Vertragsstra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odaphone/Siemens kla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Einigung: jeder kriegt was 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656830-3A6D-444E-BC3F-569F126FEB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 - der Vert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. 17.000 S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sind etwa 34 Aktenord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addams Bericht an die UNO: 11.000 S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trag auch gegenüber Bundestag gehe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 in die schöne Schwei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el und nicht Züri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el-Land oder Basel-Stad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h was soll‘s, für die Presse halt noch m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80B2FB-2DE5-411C-8C6E-BCEE3E08EB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eltweit führende Techni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wicklungskos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0.000.000 bis 1.000.000.000 EUR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100.000,- EUR p.a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.000 bis 10.000 Personenjah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5994CA-9A99-4DE2-82C2-0C9CA3EC6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eltweit führende Technik!!1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Satelliten kommen von den 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eincomputer (gibt‘s fertig zu kauf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ssystem 10 Personenjah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rechnungssoftware 20 P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utterminals in Tankstellen (POS) 5 PJ?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bauftritt (100 Mio. EUR, siehe Arbeitsam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kehrs-Überwachungssystem (Rest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EED502-AF01-4C67-BD8C-FEA1286387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ührend!!1!1ein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frarot zur Kommunikation mit O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ögliche Schwierigkeiten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R geht nicht durch Was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R geht nicht durch Schmutz.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lück im Unglück: nur die Mautkontrolle ist betroff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43DA3E-A839-4C9E-8A61-B9C4933D2B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ÜHREND!!1!einself!1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line Softwareupd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der nicht für das Tarifmod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utpreise können grade nicht geändert werden. Schade eigentlich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by: 2A. Betrieb: 4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S muss &lt;10m genau s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ist es laut Amis zu 9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nn kein Krieg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A26142-7342-4975-B106-C5477BD861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 - Betriebskos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etzt nur noch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20% vom Umsatz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um Vergle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weiz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ankreich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manueller Erfassung mit tausenden von Arbeitsplät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14A5DC-0589-417E-91A6-859BA16D41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(r)ollCollect: geniales Desig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se Preise wurden möglich du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MS statt GP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xtrem schnelle und zuverlässige Entwickl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onders geschickte Vertragsverhandlu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BAA428-F617-4D78-8BE8-469FE4B5E2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7:11:36Z</dcterms:created>
  <dc:creator>Volker Birk</dc:creator>
  <dc:description/>
  <dc:language>en-US</dc:language>
  <cp:lastModifiedBy>Volker Birk</cp:lastModifiedBy>
  <cp:lastPrinted>1904-01-01T00:00:00Z</cp:lastPrinted>
  <dcterms:modified xsi:type="dcterms:W3CDTF">2004-12-29T09:33:02Z</dcterms:modified>
  <cp:revision>65</cp:revision>
  <dc:subject/>
  <dc:title>The Big T(r)ollCollect Show</dc:title>
</cp:coreProperties>
</file>