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657-054F-44BA-B050-0536A6F0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03A-4419-4DC9-B55F-373D5781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998-935C-478E-BA01-D44B5881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A24-D8B5-44DE-9501-735376FD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C2E-97B0-41B3-B12E-E4C37F8B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9BD-2210-4A7E-865C-DB547ACC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B62-E623-4497-A90A-7B93FE94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755-E523-4906-93CB-6C9F16AF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30B-4BCC-4DD3-BDE2-BBEAF368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D16-341F-4C11-BC49-29385C9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776-BCF5-4BD0-862E-711500D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AFA-F529-4D72-AF89-547F032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F58C-996E-47F1-A705-0054163B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Machine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Trumpb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Software C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gn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llot is configured and stored to a file which can be installed by removable media or via an outside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is initialized and voters vote with smart cards, to be reset after v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er or administrator smart card gives ok to send results to be tallied at G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mounting drive as directory-take out drive and just create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program a smart card-as multiple voters or for administrat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not used or used properly.  Reporting to GEMS does not use any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lines, Internet, wireless all ways for man-in-the-middle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hange control process to prevent coders from adding malic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ethods for DoS attacks: Admin or ender card and ballot definition from 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n numbers are unprotected, stored on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 and key are hard coded in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 back to use manufacturer’s default password on smart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is done in the clear within the registry; i.e. terminal serial and COM 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idate order on ballot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base is MS Access; not very robust like SQL Server or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design lacks referential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C_ERROR CCLXSmartCard::Open(CCardReader* pRea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[removed code]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Now initiate access to the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f failed to access the file then have unknown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electFile(0x3d40) != SMC_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 = SMC_UNKNOWNCAR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lse if our password works then all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Verify(0x80, 8, {0xed, 0x0a, 0xed, 0x0a, 0xed, 0x0a, 0xed, 0x0a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= SMC_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 = SMC_O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lse if manufactures password works then try to change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(Verify(0x80, 8, {0x01, 0x02, 0x03, 0x04, 0x05, 0x06, 0x07, 0x08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= SMC_OK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 = ChangeCode(8, {0x01, 0x02, 0x03, 0x04, 0x05, 0x06, 0x07, 0x08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, {0xed, 0x0a, 0xed, 0x0a, 0xed, 0x0a, 0xed, 0x0a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lse have a bad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 = SMC_BADCAR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 Log Encry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define DESKEY ((des_key*)"F2654hD4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BCEncrypt((des_c_block*)tmp, (des_c_block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ord.m_Data, totalSize, DESKEY, NULL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_ENCRYP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lili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se the file until the EOF Token.  If we get too many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level, we ab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A simple token is anything that starts with a character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part of an identifier.  Here we do a brute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f every sub-string starting with this character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9 characters in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XXX Why the magic 9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lili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/*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XXX Okay, I don't like this one bit.  Its really tough to tell where m_Audio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should live.  CBallotWnd is not bad, since that is where it is used most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CBallotWnd is always around when you need to play audio.  Its als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only window that is (currently) interested in OnAudioFinished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*Except* it seems, the CLanuageSelDlg.  The solution chosen is to construc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CBallotWnd early and fire up VIBS with InitAudio().  Its probably fair to ask wh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CInstructionDlg is a child of CBallotDlg but not CLanguageSelDlg.  CBallotDlg m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be a better place for m_AudioPlayer.  A reorganization might be in order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{ /* XXX ERROR ERROR ERRO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countthevote.org/temptsx/cvs.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lackboxvoting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eff.org/Activism/E-votin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ired.com/news/e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form Paper Bal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s make choices in private by marking boxes, then dropping ballot in sealed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uniform paper ballots were used in Victoria Australia in 185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e used in the US for the first time in the State of New York in 18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less than 2 percent of voting in the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chanical Lever Mach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r closes privacy curtain which initializes for voter; horizontal levers are turned which are finalized when opening privacy curtain with lever.  Counts with dials which move 1/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dig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used in Lockport, New York in 18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major US city used by 193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half of US votes by 1960’s; now 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nch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s punch holes in cards which are put in ballot box and later computer tabulated at prec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used in Georgia in 19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ypes: votematic (names correspond to numbers) and datavote (names next to holes to be punch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6 used by estimated 37 percent of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cal Sc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like tests taken with number 2 pencils where one blackens the choice and is later tabulated by a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use in the early 1980’s but exact origin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about 24 percent of US by late 199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Recording Electronic (D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lever machines, most do not currently rely on paper.  End user touches screen or push buttons.  Stores results to memory, disk or smart c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use in the 197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late 1990’s used by about 8 percent of the US.  Today over 25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lk of this talk will concentrate on DRE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ing Machine Reliability Statistic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ual vote for machines from 1988-200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Scan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r Mach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nch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bol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de on Public FTP 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was discovered on Diebold’s ftp site Januar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Diebold officials seemed un-concerned about proprietary code on the Internet, they took it off upon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bold has not taken action about mirrored code available public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de 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is for the terminal voting machines, AccuVote-TS and not the GEMS back-end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was written in C++, which if not in tight control, is vulnerable to buffer overflow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inals are configured under several Microsoft Windows environments (i.e. 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6:13:34Z</dcterms:created>
  <dc:creator>tom</dc:creator>
  <dc:description/>
  <dc:language>en-US</dc:language>
  <cp:lastModifiedBy>tom</cp:lastModifiedBy>
  <dcterms:modified xsi:type="dcterms:W3CDTF">2004-12-28T21:50:24Z</dcterms:modified>
  <cp:revision>19</cp:revision>
  <dc:subject/>
  <dc:title>Voting Machine Technology</dc:title>
</cp:coreProperties>
</file>