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0666413" cy="8002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95997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160" y="4296600"/>
            <a:ext cx="95997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160" y="429660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52200" y="429660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78920" y="187236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025040" y="187236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160" y="429660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78920" y="429660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025040" y="4296600"/>
            <a:ext cx="3090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160" y="1872360"/>
            <a:ext cx="95997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95997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160" y="318960"/>
            <a:ext cx="959976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160" y="429660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52200" y="429660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52200" y="1872360"/>
            <a:ext cx="4684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4296600"/>
            <a:ext cx="95997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81040" y="0"/>
            <a:ext cx="10086840" cy="8001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7169040"/>
            <a:ext cx="5810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CCB6-FF7A-45C0-B399-BD4BFC287878}" type="slidenum"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81040" y="0"/>
            <a:ext cx="67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39393"/>
                </a:solidFill>
                <a:latin typeface="Arial"/>
              </a:rPr>
              <a:t>2004 – © marko@maglic.de: </a:t>
            </a:r>
            <a:r>
              <a:rPr b="0" lang="de-DE" sz="1400" spc="-1" strike="noStrike">
                <a:solidFill>
                  <a:srgbClr val="939393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939393"/>
                </a:solidFill>
                <a:latin typeface="Arial"/>
              </a:rPr>
              <a:t>Information – Knowledge –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02800" y="775656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c0c0"/>
                </a:solidFill>
                <a:latin typeface="Arial"/>
              </a:rPr>
              <a:t>28.12.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54120" y="328680"/>
            <a:ext cx="10013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318960"/>
            <a:ext cx="959976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33160" y="1872360"/>
            <a:ext cx="95997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76200" indent="-37476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0400" indent="-39852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06600" indent="-37476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06600" indent="-37476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06600" indent="-37476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57400" y="3352680"/>
            <a:ext cx="8785080" cy="21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Information – Wissen – Mac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unkle Seiten der Informationsgesellschaft ?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6480" y="6521400"/>
            <a:ext cx="431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o Mag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© marko@maglic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41760" y="1192320"/>
            <a:ext cx="57592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724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Informationsgesellschaft: Wissen,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9120" y="2484360"/>
            <a:ext cx="863100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1" marL="376200" indent="-37476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ssen im Wan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52680" y="4378320"/>
            <a:ext cx="8137440" cy="55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609480" indent="-609480"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ivacy im Wan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62480" y="3137040"/>
            <a:ext cx="576000" cy="1224000"/>
          </a:xfrm>
          <a:prstGeom prst="line">
            <a:avLst/>
          </a:prstGeom>
          <a:ln w="50760">
            <a:solidFill>
              <a:srgbClr val="df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68724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Informations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gesellschaft: Wissen im Wandel (1 /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1040" y="1552680"/>
            <a:ext cx="9577440" cy="509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3" marL="1130400" indent="-398520">
              <a:lnSpc>
                <a:spcPct val="100000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4000" spc="-1" strike="noStrike">
                <a:solidFill>
                  <a:srgbClr val="df0029"/>
                </a:solidFill>
                <a:latin typeface="Arial"/>
              </a:rPr>
              <a:t>=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00000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ct val="100000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potential source of private or sectional power </a:t>
            </a:r>
            <a:br>
              <a:rPr sz="3200"/>
            </a:br>
            <a:r>
              <a:rPr b="1" lang="de-DE" sz="2800" spc="-1" strike="noStrike">
                <a:solidFill>
                  <a:srgbClr val="969696"/>
                </a:solidFill>
                <a:latin typeface="Arial"/>
              </a:rPr>
              <a:t>(Barnes, 1979)</a:t>
            </a:r>
            <a:br>
              <a:rPr sz="2800"/>
            </a:br>
            <a:r>
              <a:rPr b="1" lang="de-DE" sz="2800" spc="-1" strike="noStrike">
                <a:solidFill>
                  <a:srgbClr val="96969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ct val="100000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the oxygen of the modern age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de-DE" sz="2800" spc="-1" strike="noStrike">
                <a:solidFill>
                  <a:srgbClr val="969696"/>
                </a:solidFill>
                <a:latin typeface="Arial"/>
              </a:rPr>
              <a:t>(Ronald Reagan, 198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00000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ct val="100000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i="1" lang="de-DE" sz="3200" spc="-1" strike="noStrike">
                <a:solidFill>
                  <a:srgbClr val="df0029"/>
                </a:solidFill>
                <a:latin typeface="Arial"/>
              </a:rPr>
              <a:t>Strategische Res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68724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Informationsgesellschaft: Wissen im Wandel (2 /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1040" y="1552680"/>
            <a:ext cx="10086840" cy="578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 Di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983400">
            <a:off x="1372680" y="3568320"/>
            <a:ext cx="2808360" cy="1943280"/>
          </a:xfrm>
          <a:prstGeom prst="irregularSeal2">
            <a:avLst/>
          </a:prstGeom>
          <a:solidFill>
            <a:srgbClr val="ffff00">
              <a:alpha val="55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00320" y="2776680"/>
            <a:ext cx="918360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794800" y="608796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hysikalischer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721720" y="4721400"/>
            <a:ext cx="19461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achrich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Kodieren - Dekodi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21400" y="6087960"/>
            <a:ext cx="2951280" cy="649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21400" y="4863960"/>
            <a:ext cx="2951280" cy="649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723160" y="3352680"/>
            <a:ext cx="194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lektieren, Verstehen, Verarbeiten, Sorti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647200" y="2128680"/>
            <a:ext cx="2020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mfassendes „Weltwissen“, kann Ratschläge ertei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21400" y="3568680"/>
            <a:ext cx="2951280" cy="649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21400" y="2344680"/>
            <a:ext cx="2951280" cy="649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eis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5950400">
            <a:off x="4613040" y="5368680"/>
            <a:ext cx="1152720" cy="863640"/>
          </a:xfrm>
          <a:custGeom>
            <a:avLst/>
            <a:gdLst>
              <a:gd name="textAreaLeft" fmla="*/ 177840 w 1152720"/>
              <a:gd name="textAreaRight" fmla="*/ 859680 w 115272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671" hR="21600" stAng="10800000" swAng="5400000"/>
                <a:lnTo>
                  <a:pt x="12769" y="0"/>
                </a:lnTo>
                <a:arcTo wR="6671" hR="21600" stAng="-5400000" swAng="2468308"/>
                <a:lnTo>
                  <a:pt x="21218" y="14400"/>
                </a:lnTo>
                <a:lnTo>
                  <a:pt x="16391" y="21600"/>
                </a:lnTo>
                <a:lnTo>
                  <a:pt x="10800" y="14400"/>
                </a:lnTo>
                <a:lnTo>
                  <a:pt x="12960" y="14400"/>
                </a:lnTo>
                <a:arcTo wR="6671" hR="21600" stAng="-2931692" swAng="-1927237"/>
                <a:lnTo>
                  <a:pt x="9720" y="2388"/>
                </a:lnTo>
                <a:arcTo wR="6671" hR="21600" stAng="-5941071" swAng="-4858929"/>
                <a:close/>
              </a:path>
              <a:path fill="darkenLess" w="21600" h="21600">
                <a:moveTo>
                  <a:pt x="0" y="21600"/>
                </a:moveTo>
                <a:arcTo wR="6671" hR="21600" stAng="10800000" swAng="5400000"/>
                <a:lnTo>
                  <a:pt x="6671" y="0"/>
                </a:lnTo>
                <a:arcTo wR="6671" hR="21600" stAng="-5400000" swAng="541071"/>
                <a:lnTo>
                  <a:pt x="9720" y="2388"/>
                </a:lnTo>
                <a:arcTo wR="6671" hR="21600" stAng="-5941071" swAng="-4858929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5950400">
            <a:off x="4613040" y="3928680"/>
            <a:ext cx="1152360" cy="863640"/>
          </a:xfrm>
          <a:custGeom>
            <a:avLst/>
            <a:gdLst>
              <a:gd name="textAreaLeft" fmla="*/ 177840 w 1152360"/>
              <a:gd name="textAreaRight" fmla="*/ 859320 w 115236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671" hR="21600" stAng="10800000" swAng="5400000"/>
                <a:lnTo>
                  <a:pt x="12769" y="0"/>
                </a:lnTo>
                <a:arcTo wR="6671" hR="21600" stAng="-5400000" swAng="2468308"/>
                <a:lnTo>
                  <a:pt x="21218" y="14400"/>
                </a:lnTo>
                <a:lnTo>
                  <a:pt x="16391" y="21600"/>
                </a:lnTo>
                <a:lnTo>
                  <a:pt x="10800" y="14400"/>
                </a:lnTo>
                <a:lnTo>
                  <a:pt x="12960" y="14400"/>
                </a:lnTo>
                <a:arcTo wR="6671" hR="21600" stAng="-2931692" swAng="-1927237"/>
                <a:lnTo>
                  <a:pt x="9720" y="2388"/>
                </a:lnTo>
                <a:arcTo wR="6671" hR="21600" stAng="-5941071" swAng="-4858929"/>
                <a:close/>
              </a:path>
              <a:path fill="darkenLess" w="21600" h="21600">
                <a:moveTo>
                  <a:pt x="0" y="21600"/>
                </a:moveTo>
                <a:arcTo wR="6671" hR="21600" stAng="10800000" swAng="5400000"/>
                <a:lnTo>
                  <a:pt x="6671" y="0"/>
                </a:lnTo>
                <a:arcTo wR="6671" hR="21600" stAng="-5400000" swAng="541071"/>
                <a:lnTo>
                  <a:pt x="9720" y="2388"/>
                </a:lnTo>
                <a:arcTo wR="6671" hR="21600" stAng="-5941071" swAng="-4858929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5950400">
            <a:off x="4613040" y="2704680"/>
            <a:ext cx="1152360" cy="863640"/>
          </a:xfrm>
          <a:custGeom>
            <a:avLst/>
            <a:gdLst>
              <a:gd name="textAreaLeft" fmla="*/ 177840 w 1152360"/>
              <a:gd name="textAreaRight" fmla="*/ 859320 w 115236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671" hR="21600" stAng="10800000" swAng="5400000"/>
                <a:lnTo>
                  <a:pt x="12769" y="0"/>
                </a:lnTo>
                <a:arcTo wR="6671" hR="21600" stAng="-5400000" swAng="2468308"/>
                <a:lnTo>
                  <a:pt x="21218" y="14400"/>
                </a:lnTo>
                <a:lnTo>
                  <a:pt x="16391" y="21600"/>
                </a:lnTo>
                <a:lnTo>
                  <a:pt x="10800" y="14400"/>
                </a:lnTo>
                <a:lnTo>
                  <a:pt x="12960" y="14400"/>
                </a:lnTo>
                <a:arcTo wR="6671" hR="21600" stAng="-2931692" swAng="-1927237"/>
                <a:lnTo>
                  <a:pt x="9720" y="2388"/>
                </a:lnTo>
                <a:arcTo wR="6671" hR="21600" stAng="-5941071" swAng="-4858929"/>
                <a:close/>
              </a:path>
              <a:path fill="darkenLess" w="21600" h="21600">
                <a:moveTo>
                  <a:pt x="0" y="21600"/>
                </a:moveTo>
                <a:arcTo wR="6671" hR="21600" stAng="10800000" swAng="5400000"/>
                <a:lnTo>
                  <a:pt x="6671" y="0"/>
                </a:lnTo>
                <a:arcTo wR="6671" hR="21600" stAng="-5400000" swAng="541071"/>
                <a:lnTo>
                  <a:pt x="9720" y="2388"/>
                </a:lnTo>
                <a:arcTo wR="6671" hR="21600" stAng="-5941071" swAng="-4858929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1040" y="4576680"/>
            <a:ext cx="10086840" cy="0"/>
          </a:xfrm>
          <a:prstGeom prst="line">
            <a:avLst/>
          </a:prstGeom>
          <a:ln cap="rnd" w="92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444680" y="4289400"/>
            <a:ext cx="3097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gital divid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1085760" y="248760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df0029"/>
                </a:solidFill>
                <a:latin typeface="Arial"/>
              </a:rPr>
              <a:t>Digital Winners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ntroll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85760" y="587232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df0029"/>
                </a:solidFill>
                <a:latin typeface="Arial"/>
              </a:rPr>
              <a:t>Digital Losers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rden kontroll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68724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Informationsgesellschaft: Privacy im Wandel (1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040" y="1552680"/>
            <a:ext cx="9577440" cy="588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üh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100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800" spc="-1" strike="noStrike">
                <a:solidFill>
                  <a:srgbClr val="df0029"/>
                </a:solidFill>
                <a:latin typeface="Arial"/>
              </a:rPr>
              <a:t>ausgewählt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Personen interess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100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obachtung wahrnehm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100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obachtung </a:t>
            </a:r>
            <a:r>
              <a:rPr b="1" lang="de-DE" sz="2800" spc="-1" strike="noStrike">
                <a:solidFill>
                  <a:srgbClr val="df0029"/>
                </a:solidFill>
                <a:latin typeface="Arial"/>
              </a:rPr>
              <a:t>temporä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100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egenmaßnahme leise reden, „Türen schließen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100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800" spc="-1" strike="noStrike">
                <a:solidFill>
                  <a:srgbClr val="df0029"/>
                </a:solidFill>
                <a:latin typeface="Arial"/>
              </a:rPr>
              <a:t>all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ersonen interess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100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obachtung </a:t>
            </a:r>
            <a:r>
              <a:rPr b="1" lang="de-DE" sz="2800" spc="-1" strike="noStrike">
                <a:solidFill>
                  <a:srgbClr val="df0029"/>
                </a:solidFill>
                <a:latin typeface="Arial"/>
              </a:rPr>
              <a:t>nicht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ahrnehmbar / bewus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100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obachtung </a:t>
            </a:r>
            <a:r>
              <a:rPr b="1" lang="de-DE" sz="2800" spc="-1" strike="noStrike">
                <a:solidFill>
                  <a:srgbClr val="df0029"/>
                </a:solidFill>
                <a:latin typeface="Arial"/>
              </a:rPr>
              <a:t>perma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100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egenmaßnahme </a:t>
            </a:r>
            <a:r>
              <a:rPr b="1" lang="de-DE" sz="2800" spc="-1" strike="noStrike">
                <a:solidFill>
                  <a:srgbClr val="df0029"/>
                </a:solidFill>
                <a:latin typeface="Arial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68724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Informationsgesellschaft: Privacy im Wandel (2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1040" y="1552680"/>
            <a:ext cx="9577440" cy="53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 Privac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eine operable Definition bis heute, </a:t>
            </a:r>
            <a:r>
              <a:rPr b="1" lang="de-DE" sz="2800" spc="-1" strike="noStrike">
                <a:solidFill>
                  <a:srgbClr val="df0029"/>
                </a:solidFill>
                <a:latin typeface="Arial"/>
              </a:rPr>
              <a:t>A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f0029"/>
                </a:solidFill>
                <a:latin typeface="Arial"/>
              </a:rPr>
              <a:t>Privacy is freedom from social contact and observation when these are not desir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Solitude is the lack of desired social contact. </a:t>
            </a:r>
            <a:br>
              <a:rPr sz="2800"/>
            </a:b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(Paul </a:t>
            </a:r>
            <a:r>
              <a:rPr b="1" lang="de-DE" sz="2400" spc="-1" strike="noStrike">
                <a:solidFill>
                  <a:srgbClr val="969696"/>
                </a:solidFill>
                <a:latin typeface="Arial"/>
              </a:rPr>
              <a:t>Halmos,</a:t>
            </a:r>
            <a:r>
              <a:rPr b="1" lang="de-DE" sz="2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df0029"/>
                </a:solidFill>
                <a:latin typeface="Arial"/>
              </a:rPr>
              <a:t>1952</a:t>
            </a:r>
            <a:r>
              <a:rPr b="1" lang="de-DE" sz="2400" spc="-1" strike="noStrike">
                <a:solidFill>
                  <a:srgbClr val="96969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acy is a </a:t>
            </a:r>
            <a:r>
              <a:rPr b="1" lang="en-US" sz="2800" spc="-1" strike="noStrike">
                <a:solidFill>
                  <a:srgbClr val="df0029"/>
                </a:solidFill>
                <a:latin typeface="Arial"/>
              </a:rPr>
              <a:t>modern right sacrific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s part of the price of participation in post-modern information societies. </a:t>
            </a:r>
            <a:br>
              <a:rPr sz="2800"/>
            </a:b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(Lelia Green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8724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echnologie vs. Privacy (1 /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1040" y="1552680"/>
            <a:ext cx="9577440" cy="578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969696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ybercrim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969696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969696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I-War and Information Warf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969696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969696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Echelon &amp; Carnivore, Enfop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969696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969696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RFID, Biometrische Verf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MINING und K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inung: Macher und Manipulat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9516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echnology vs. Privacy – KDD / Data Mining (1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1040" y="1552680"/>
            <a:ext cx="9577440" cy="622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just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df0029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ledge </a:t>
            </a:r>
            <a:r>
              <a:rPr b="1" lang="en-US" sz="3600" spc="-1" strike="noStrike">
                <a:solidFill>
                  <a:srgbClr val="df0029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covery in </a:t>
            </a:r>
            <a:r>
              <a:rPr b="1" lang="en-US" sz="3600" spc="-1" strike="noStrike">
                <a:solidFill>
                  <a:srgbClr val="df0029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ab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just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df0029"/>
                </a:solidFill>
                <a:latin typeface="Arial"/>
              </a:rPr>
              <a:t>Data Mi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just">
              <a:lnSpc>
                <a:spcPct val="12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mlung von Techniken (~Algorithmen) zum Auffinden von validen, neuen, interessanten, interpretierbaren und nützlichen (verwertbaren) Mustern, Regeln, Gruppen und Abhängigkeiten (~Wissen) in großen Datenban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just">
              <a:lnSpc>
                <a:spcPct val="12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udec, 200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69516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echnology vs. Privacy – KDD / Data Mining (1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1040" y="1552680"/>
            <a:ext cx="9577440" cy="622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just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df0029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ledge </a:t>
            </a:r>
            <a:r>
              <a:rPr b="1" lang="en-US" sz="3600" spc="-1" strike="noStrike">
                <a:solidFill>
                  <a:srgbClr val="df0029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covery in </a:t>
            </a:r>
            <a:r>
              <a:rPr b="1" lang="en-US" sz="3600" spc="-1" strike="noStrike">
                <a:solidFill>
                  <a:srgbClr val="df0029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ab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just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df0029"/>
                </a:solidFill>
                <a:latin typeface="Arial"/>
              </a:rPr>
              <a:t>Data Mi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just">
              <a:lnSpc>
                <a:spcPct val="12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mlung von Techniken (~</a:t>
            </a: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Algorithm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zum Auffinden von validen, neuen, interessanten, interpretierbaren und nützlichen (</a:t>
            </a: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verwertbar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Mustern, Regeln, Gruppen und Abhängigkeiten (~</a:t>
            </a: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Wiss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in großen Datenban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just">
              <a:lnSpc>
                <a:spcPct val="12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udec, 200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69516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echnology vs. Privacy – KDD / Data Mining (2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1040" y="1552680"/>
            <a:ext cx="10086840" cy="578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MINING AND K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921040"/>
            <a:ext cx="10667880" cy="1546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381400" y="2776680"/>
            <a:ext cx="0" cy="2736720"/>
          </a:xfrm>
          <a:prstGeom prst="line">
            <a:avLst/>
          </a:prstGeom>
          <a:ln w="76320">
            <a:solidFill>
              <a:srgbClr val="f3c2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25760" y="2776680"/>
            <a:ext cx="0" cy="2736720"/>
          </a:xfrm>
          <a:prstGeom prst="line">
            <a:avLst/>
          </a:prstGeom>
          <a:ln w="76320">
            <a:solidFill>
              <a:srgbClr val="f3c2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62120" y="5460840"/>
            <a:ext cx="1512720" cy="916920"/>
          </a:xfrm>
          <a:prstGeom prst="rect">
            <a:avLst/>
          </a:prstGeom>
          <a:solidFill>
            <a:srgbClr val="f3c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ceptual (kognitive)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05040" y="5460840"/>
            <a:ext cx="2016360" cy="916920"/>
          </a:xfrm>
          <a:prstGeom prst="rect">
            <a:avLst/>
          </a:prstGeom>
          <a:solidFill>
            <a:srgbClr val="f3c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ceptual (konzeptionelle)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9516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echnology vs. Privacy – KDD / Data Mining (3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1040" y="1552680"/>
            <a:ext cx="9577440" cy="58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DATA MINING und K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gorithmen um Wissen über Zielgruppen zu erarbei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se können geclustert und gruppiert werden, um </a:t>
            </a:r>
            <a:r>
              <a:rPr b="1" lang="en-US" sz="2800" spc="-1" strike="noStrike">
                <a:solidFill>
                  <a:srgbClr val="df002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ssbrauch in Form von </a:t>
            </a:r>
            <a:r>
              <a:rPr b="0" lang="de-DE" sz="2800" spc="-1" strike="noStrike">
                <a:solidFill>
                  <a:srgbClr val="df0029"/>
                </a:solidFill>
                <a:latin typeface="Arial"/>
              </a:rPr>
              <a:t>social sorting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David Lyon, 2003)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2800" spc="-1" strike="noStrike">
                <a:solidFill>
                  <a:srgbClr val="df0029"/>
                </a:solidFill>
                <a:latin typeface="Arial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entrale Technologie im Informationszeita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0" lang="en-US" sz="2800" spc="-1" strike="noStrike">
                <a:solidFill>
                  <a:srgbClr val="df0029"/>
                </a:solidFill>
                <a:latin typeface="Arial"/>
              </a:rPr>
              <a:t>enab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81040" y="1120680"/>
            <a:ext cx="10086840" cy="546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Arial"/>
              </a:rPr>
              <a:t>Lieb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Zuhörerinn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969696"/>
                </a:solidFill>
                <a:latin typeface="Arial"/>
              </a:rPr>
              <a:t>un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Zuhörer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69516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Information vs. Wissen (1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1040" y="1552680"/>
            <a:ext cx="9577440" cy="550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uhman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798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800" spc="-1" strike="noStrike">
                <a:solidFill>
                  <a:srgbClr val="df0029"/>
                </a:solidFill>
                <a:latin typeface="Arial"/>
              </a:rPr>
              <a:t>kommunik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ist die operation, mit der sich soziale systeme (re-)produzieren, sie ist das </a:t>
            </a:r>
            <a:r>
              <a:rPr b="1" lang="de-DE" sz="2800" spc="-1" strike="noStrike">
                <a:solidFill>
                  <a:srgbClr val="df0029"/>
                </a:solidFill>
                <a:latin typeface="Arial"/>
              </a:rPr>
              <a:t>zentrale letztelement für die definition und den erhalt von gesellschaft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. eine veränderung kommunikativer möglichkeiten durch ein neues medium verändert also immer auch die gesellschaft.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ct val="110000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0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969696"/>
                </a:solidFill>
                <a:latin typeface="Arial"/>
              </a:rPr>
              <a:t>Scheibmayr, W. (2001). Medientheoretische Reflexion: Niklas Luhmanns Kommunikationsbegri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9516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Information vs. Wissen (2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1040" y="1552680"/>
            <a:ext cx="9577440" cy="586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ssenmedien verhindern den interpretatorischen Akt der Wissensgenerierung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fmerksamke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ät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ä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ssenmedien manipulieren die öffentliche Meinung, informieren nicht meh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df0029"/>
                </a:solidFill>
                <a:latin typeface="Arial"/>
              </a:rPr>
              <a:t>War is Peac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truth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(Orwell </a:t>
            </a:r>
            <a:r>
              <a:rPr b="1" i="1" lang="en-US" sz="2400" spc="-1" strike="noStrike">
                <a:solidFill>
                  <a:srgbClr val="969696"/>
                </a:solidFill>
                <a:latin typeface="Arial"/>
              </a:rPr>
              <a:t>1984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69516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Information vs. Wissen (3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1040" y="1552680"/>
            <a:ext cx="9577440" cy="13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r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Religion </a:t>
            </a: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Op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1040" y="2847960"/>
            <a:ext cx="9577440" cy="46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3" marL="1130400" indent="-398520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arenti, 200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df0029"/>
                </a:solidFill>
                <a:latin typeface="Arial"/>
              </a:rPr>
              <a:t>Media</a:t>
            </a:r>
            <a:r>
              <a:rPr b="1" lang="de-DE" sz="32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df0029"/>
                </a:solidFill>
                <a:latin typeface="Arial"/>
              </a:rPr>
              <a:t>=</a:t>
            </a:r>
            <a:r>
              <a:rPr b="1" lang="de-DE" sz="32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df0029"/>
                </a:solidFill>
                <a:latin typeface="Arial"/>
              </a:rPr>
              <a:t>mental Novoc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 algn="just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re seems to be more than mental Novocain at work here. Reality TV is highly political. One study found that regular viewers of cop-oriented reality TV are likely to overestimate the rate of violent crime, particularly among African America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695160"/>
            <a:ext cx="1066788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1" marL="376200" indent="-37476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Information Man vs. Information Society? (1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040" y="1552680"/>
            <a:ext cx="9433080" cy="57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The Need for “Data Hunt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000" spc="-1" strike="noStrike">
                <a:solidFill>
                  <a:srgbClr val="df0029"/>
                </a:solidFill>
                <a:latin typeface="Arial"/>
              </a:rPr>
              <a:t>Wissen = Geld = Mac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400" spc="-1" strike="noStrike">
                <a:solidFill>
                  <a:srgbClr val="c0c0c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erungen und Institutionen haben kein Interesse daran, das “einfache” Volk aufzuklä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ispiel rechtliche Sit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buClr>
                <a:srgbClr val="969696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ine Definition von Privacy = kein Schu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buClr>
                <a:srgbClr val="969696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-gefährdende Gesetze (</a:t>
            </a:r>
            <a:r>
              <a:rPr b="0" lang="en-US" sz="2400" spc="-1" strike="noStrike">
                <a:solidFill>
                  <a:srgbClr val="df0029"/>
                </a:solidFill>
                <a:latin typeface="Arial"/>
              </a:rPr>
              <a:t>Patriot Act, Flugdaten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buClr>
                <a:srgbClr val="969696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Selbstschutz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t die einzige Möglich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42480" y="1479600"/>
            <a:ext cx="504720" cy="5772600"/>
          </a:xfrm>
          <a:prstGeom prst="rect">
            <a:avLst/>
          </a:prstGeom>
          <a:solidFill>
            <a:srgbClr val="f3c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95160"/>
            <a:ext cx="1066788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1" marL="376200" indent="-37476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Information Man vs. Information Society? (2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1040" y="1552680"/>
            <a:ext cx="9577440" cy="431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The Need for “Data Protec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sch (Privacy) </a:t>
            </a:r>
            <a:r>
              <a:rPr b="1" lang="en-US" sz="3200" spc="-1" strike="noStrike">
                <a:solidFill>
                  <a:srgbClr val="df0029"/>
                </a:solidFill>
                <a:latin typeface="Symbol"/>
                <a:ea typeface="Symbol"/>
              </a:rPr>
              <a:t>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esellschaft (Secur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“pass par tout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rg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gelnde Unterrichtung &amp; Aufkläru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6600" indent="-374760">
              <a:lnSpc>
                <a:spcPts val="3197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8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df002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hlendes Bewußtsein in d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ffentlich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4120" y="1407960"/>
            <a:ext cx="504720" cy="5772600"/>
          </a:xfrm>
          <a:prstGeom prst="rect">
            <a:avLst/>
          </a:prstGeom>
          <a:solidFill>
            <a:srgbClr val="f3c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695160"/>
            <a:ext cx="1066788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1" marL="376200" indent="-37476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Information Man vs. Information Society? (3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57400" y="1552680"/>
            <a:ext cx="8424720" cy="53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 algn="ctr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ctr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ctr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000" spc="-1" strike="noStrike">
                <a:solidFill>
                  <a:srgbClr val="df002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formation </a:t>
            </a:r>
            <a:r>
              <a:rPr b="1" lang="en-US" sz="4000" spc="-1" strike="noStrike">
                <a:solidFill>
                  <a:srgbClr val="df0029"/>
                </a:solidFill>
                <a:latin typeface="Arial"/>
              </a:rPr>
              <a:t>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ctr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ctr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ctr">
              <a:lnSpc>
                <a:spcPct val="13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000" spc="-1" strike="noStrike">
                <a:solidFill>
                  <a:srgbClr val="df0029"/>
                </a:solidFill>
                <a:latin typeface="Arial"/>
              </a:rPr>
              <a:t>continuous and self-generating conflic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ctr">
              <a:lnSpc>
                <a:spcPct val="13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000" spc="-1" strike="noStrike">
                <a:solidFill>
                  <a:srgbClr val="969696"/>
                </a:solidFill>
                <a:latin typeface="Arial"/>
              </a:rPr>
              <a:t>between state and individual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ctr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(Madgwick &amp; Smythe, 197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42480" y="1479600"/>
            <a:ext cx="504720" cy="5772600"/>
          </a:xfrm>
          <a:prstGeom prst="rect">
            <a:avLst/>
          </a:prstGeom>
          <a:solidFill>
            <a:srgbClr val="f3c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4120" y="1407960"/>
            <a:ext cx="504720" cy="5772600"/>
          </a:xfrm>
          <a:prstGeom prst="rect">
            <a:avLst/>
          </a:prstGeom>
          <a:solidFill>
            <a:srgbClr val="f3c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0029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30480" y="2200320"/>
            <a:ext cx="2087280" cy="792000"/>
          </a:xfrm>
          <a:custGeom>
            <a:avLst/>
            <a:gdLst>
              <a:gd name="textAreaLeft" fmla="*/ 260640 w 2087280"/>
              <a:gd name="textAreaRight" fmla="*/ 1826640 w 208728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0760">
            <a:solidFill>
              <a:srgbClr val="f3c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0800000">
            <a:off x="7854480" y="2200320"/>
            <a:ext cx="2087640" cy="792000"/>
          </a:xfrm>
          <a:custGeom>
            <a:avLst/>
            <a:gdLst>
              <a:gd name="textAreaLeft" fmla="*/ 261000 w 2087640"/>
              <a:gd name="textAreaRight" fmla="*/ 1827000 w 20876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0760">
            <a:solidFill>
              <a:srgbClr val="f3c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68724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4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969696"/>
                </a:solidFill>
                <a:latin typeface="Arial"/>
              </a:rPr>
              <a:t>Conclusio and Outlook (1 /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1040" y="1552680"/>
            <a:ext cx="9721800" cy="54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mensionen von Priv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just">
              <a:lnSpc>
                <a:spcPct val="11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df0029"/>
                </a:solidFill>
                <a:latin typeface="Arial"/>
              </a:rPr>
              <a:t>discuss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 question of </a:t>
            </a:r>
            <a:r>
              <a:rPr b="1" lang="en-US" sz="2800" spc="-1" strike="noStrike">
                <a:solidFill>
                  <a:srgbClr val="df0029"/>
                </a:solidFill>
                <a:latin typeface="Arial"/>
              </a:rPr>
              <a:t>privac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hen, we are not discussing a peripheral nuisance that will yield to a few simple remedies, though we shall give due consideration to these matters also. What we are really discussing is the </a:t>
            </a:r>
            <a:r>
              <a:rPr b="1" lang="en-US" sz="2800" spc="-1" strike="noStrike">
                <a:solidFill>
                  <a:srgbClr val="df0029"/>
                </a:solidFill>
                <a:latin typeface="Arial"/>
              </a:rPr>
              <a:t>problem of power itself, its uses and abuses, and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df0029"/>
                </a:solidFill>
                <a:latin typeface="Arial"/>
              </a:rPr>
              <a:t>tyranny it inevitably engend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nless the citizen is constantly vigi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just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1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969696"/>
                </a:solidFill>
                <a:latin typeface="Arial"/>
              </a:rPr>
              <a:t>Madgwick, D. &amp; Smythe, T. (1974). </a:t>
            </a:r>
            <a:r>
              <a:rPr b="1" i="1" lang="de-DE" sz="1800" spc="-1" strike="noStrike">
                <a:solidFill>
                  <a:srgbClr val="969696"/>
                </a:solidFill>
                <a:latin typeface="Arial"/>
              </a:rPr>
              <a:t>The invasion of privacy</a:t>
            </a:r>
            <a:r>
              <a:rPr b="1" lang="de-DE" sz="1800" spc="-1" strike="noStrike">
                <a:solidFill>
                  <a:srgbClr val="969696"/>
                </a:solidFill>
                <a:latin typeface="Arial"/>
              </a:rPr>
              <a:t>. London: Pitm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 algn="just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687240"/>
            <a:ext cx="1066788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1" marL="376200" indent="-37476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969696"/>
                </a:solidFill>
                <a:latin typeface="Arial"/>
              </a:rPr>
              <a:t>Conclusio and Outlook </a:t>
            </a:r>
            <a:r>
              <a:rPr b="1" lang="de-DE" sz="2800" spc="-1" strike="noStrike">
                <a:solidFill>
                  <a:srgbClr val="969696"/>
                </a:solidFill>
                <a:latin typeface="Arial"/>
              </a:rPr>
              <a:t>(2 /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1040" y="1552680"/>
            <a:ext cx="10086840" cy="577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 Qu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eillance networks operate in so many parts of daily life today that they are </a:t>
            </a:r>
            <a:r>
              <a:rPr b="1" lang="en-US" sz="2400" spc="-1" strike="noStrike">
                <a:solidFill>
                  <a:srgbClr val="df0029"/>
                </a:solidFill>
                <a:latin typeface="Arial"/>
              </a:rPr>
              <a:t>practically impossible to eva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houl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wish to do so.</a:t>
            </a: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(David Lyon,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ögliche Lösung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ct val="100000"/>
              </a:lnSpc>
              <a:spcAft>
                <a:spcPts val="1500"/>
              </a:spcAft>
              <a:buClr>
                <a:srgbClr val="df0029"/>
              </a:buClr>
              <a:buFont typeface="Arial"/>
              <a:buChar char="■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df0029"/>
                </a:solidFill>
                <a:latin typeface="Arial"/>
              </a:rPr>
              <a:t>Bewußtsein (awarenes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ür Technologiefolgen erhö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ct val="100000"/>
              </a:lnSpc>
              <a:spcAft>
                <a:spcPts val="1500"/>
              </a:spcAft>
              <a:buClr>
                <a:srgbClr val="df0029"/>
              </a:buClr>
              <a:buFont typeface="Arial"/>
              <a:buChar char="■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400" spc="-1" strike="noStrike">
                <a:solidFill>
                  <a:srgbClr val="df0029"/>
                </a:solidFill>
                <a:latin typeface="Arial"/>
              </a:rPr>
              <a:t>m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me a kingdom is.” 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(Sir Edward Dy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ct val="100000"/>
              </a:lnSpc>
              <a:spcAft>
                <a:spcPts val="1500"/>
              </a:spcAft>
              <a:buClr>
                <a:srgbClr val="df0029"/>
              </a:buClr>
              <a:buFont typeface="Arial"/>
              <a:buChar char="■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 </a:t>
            </a:r>
            <a:r>
              <a:rPr b="1" lang="en-US" sz="2400" spc="-1" strike="noStrike">
                <a:solidFill>
                  <a:srgbClr val="df0029"/>
                </a:solidFill>
                <a:latin typeface="Arial"/>
              </a:rPr>
              <a:t>Massenmedien entkomm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 Bewußtsein durch Reflektion schaffen, wei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f0029"/>
                </a:solidFill>
                <a:latin typeface="Arial"/>
              </a:rPr>
              <a:t>Wissen + Reflektion = Weisheit = Handlungsfähigk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558120" y="1913040"/>
            <a:ext cx="324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0" bIns="36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500" spc="-1" strike="noStrike">
                <a:solidFill>
                  <a:srgbClr val="df0029"/>
                </a:solidFill>
                <a:latin typeface="Arial"/>
              </a:rPr>
              <a:t>Kölle</a:t>
            </a:r>
            <a:r>
              <a:rPr b="1" i="1" lang="de-DE" sz="5500" spc="-1" strike="noStrike">
                <a:solidFill>
                  <a:srgbClr val="e7f74f"/>
                </a:solidFill>
                <a:latin typeface="Arial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038480" y="905040"/>
            <a:ext cx="2165400" cy="2165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773760" y="3784680"/>
            <a:ext cx="3598920" cy="2600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54120" y="4648320"/>
            <a:ext cx="81374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0" bIns="36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df0029"/>
                </a:solidFill>
                <a:latin typeface="Arial"/>
              </a:rPr>
              <a:t>Dank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df0029"/>
                </a:solidFill>
                <a:latin typeface="Arial"/>
              </a:rPr>
              <a:t>für die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df0029"/>
                </a:solidFill>
                <a:latin typeface="Arial"/>
              </a:rPr>
              <a:t>Aufmerksamkeit !</a:t>
            </a:r>
            <a:r>
              <a:rPr b="1" i="1" lang="de-DE" sz="4900" spc="-1" strike="noStrike">
                <a:solidFill>
                  <a:srgbClr val="df0029"/>
                </a:solidFill>
                <a:latin typeface="Arial"/>
              </a:rPr>
              <a:t>	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470480" y="2776680"/>
            <a:ext cx="4103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69516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969696"/>
                </a:solidFill>
                <a:latin typeface="Arial"/>
              </a:rPr>
              <a:t>Backup (1 / 1) – Emerging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1040" y="1552680"/>
            <a:ext cx="9505800" cy="586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f0029"/>
                </a:solidFill>
                <a:latin typeface="Arial"/>
              </a:rPr>
              <a:t>emerging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400" spc="-1" strike="noStrike">
                <a:solidFill>
                  <a:srgbClr val="c0c0c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vidual vs. societ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sh for privacy = supporting terroris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gnoring mass media = isolatio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 losers = anticipated reality or uto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ts val="3197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81040" y="1120680"/>
            <a:ext cx="10086840" cy="546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Arial"/>
              </a:rPr>
              <a:t>Lieb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Schwerstkriminel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969696"/>
                </a:solidFill>
                <a:latin typeface="Arial"/>
              </a:rPr>
              <a:t>un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df0029"/>
                </a:solidFill>
                <a:latin typeface="Arial"/>
              </a:rPr>
              <a:t>Verwirrt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1040" y="399960"/>
            <a:ext cx="5132520" cy="7180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97760" y="2079720"/>
            <a:ext cx="403200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Gott sei Dank: Manche verstehen es, die Sicherheit von Gesellschaft und Demokratie zu schütze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81040" y="2583000"/>
            <a:ext cx="9793440" cy="47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1.07.2004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uncil of Europe’s Convention on Cybercr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vention is the first international treaty on crimes committed via the Internet and other computer networks, dealing particularly with infringements of copyright, computer-related fraud, child pornography and violations of network security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ning, 2001: “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ckers and Terrorist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d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piracy nuts, obsessed people talking about survivalist cra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nographers of paranoia, conspiracy nuts, right wing extremists, and "freaks" who have an obsess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M: "confused" about the technologies she [Katherine Albrecht, RFID] is campaigning agains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89040" y="399960"/>
            <a:ext cx="79200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8724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Überbl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1040" y="1552680"/>
            <a:ext cx="10086840" cy="107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1000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führu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n, Information, Wi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1040" y="4213080"/>
            <a:ext cx="10086840" cy="107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609480" indent="-609480">
              <a:lnSpc>
                <a:spcPct val="1000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echnologie vs.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DD, Data Mining, Information vs. Wi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1040" y="2921040"/>
            <a:ext cx="10009080" cy="107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609480" indent="-609480">
              <a:lnSpc>
                <a:spcPct val="1000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sgesellschaf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, Priv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1040" y="5513400"/>
            <a:ext cx="10086840" cy="107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609480" indent="-609480">
              <a:lnSpc>
                <a:spcPct val="1000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ormation Man vs. Information Society?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68724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Einführung – Daten, Information, Wissen (1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1040" y="1552680"/>
            <a:ext cx="10086840" cy="619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en, Information, Wi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3520" y="2128680"/>
          <a:ext cx="9913680" cy="5038920"/>
        </p:xfrm>
        <a:graphic>
          <a:graphicData uri="http://schemas.openxmlformats.org/drawingml/2006/table">
            <a:tbl>
              <a:tblPr/>
              <a:tblGrid>
                <a:gridCol w="1079280"/>
                <a:gridCol w="1079640"/>
                <a:gridCol w="1079640"/>
                <a:gridCol w="1079280"/>
                <a:gridCol w="1706760"/>
                <a:gridCol w="1104840"/>
                <a:gridCol w="1412640"/>
                <a:gridCol w="1371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ttbewerbs-fähigke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mpetenz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Einzigartigke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df0029"/>
                          </a:solidFill>
                          <a:latin typeface="Arial"/>
                          <a:ea typeface="Arial"/>
                        </a:rPr>
                        <a:t>Handel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richtig handel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önn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Woll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Wiss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Anwendungsbez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Vernetzu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Da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Bedeutu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eich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Synt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7421400" y="608796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Wissenstreppe </a:t>
            </a:r>
            <a:br>
              <a:rPr sz="2400"/>
            </a:b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nach North, 19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8724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Einführung – Daten, Information, Wissen (2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1040" y="1552680"/>
            <a:ext cx="10086840" cy="619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en, Information, Wi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49760" y="6953400"/>
            <a:ext cx="48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Boisot, M. H. &amp; Canals, 2004. 48: The agent-in-the-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85760" y="2055960"/>
            <a:ext cx="8928360" cy="4773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13400" y="3784680"/>
            <a:ext cx="793800" cy="0"/>
          </a:xfrm>
          <a:prstGeom prst="line">
            <a:avLst/>
          </a:prstGeom>
          <a:ln w="57240">
            <a:solidFill>
              <a:srgbClr val="df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42120" y="4000680"/>
            <a:ext cx="1222200" cy="0"/>
          </a:xfrm>
          <a:prstGeom prst="line">
            <a:avLst/>
          </a:prstGeom>
          <a:ln w="57240">
            <a:solidFill>
              <a:srgbClr val="df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58120" y="4000680"/>
            <a:ext cx="1222560" cy="0"/>
          </a:xfrm>
          <a:prstGeom prst="line">
            <a:avLst/>
          </a:prstGeom>
          <a:ln w="57240">
            <a:solidFill>
              <a:srgbClr val="df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94120" y="5800680"/>
            <a:ext cx="863640" cy="0"/>
          </a:xfrm>
          <a:prstGeom prst="line">
            <a:avLst/>
          </a:prstGeom>
          <a:ln w="57240">
            <a:solidFill>
              <a:srgbClr val="f3c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65760" y="5800680"/>
            <a:ext cx="863640" cy="0"/>
          </a:xfrm>
          <a:prstGeom prst="line">
            <a:avLst/>
          </a:prstGeom>
          <a:ln w="57240">
            <a:solidFill>
              <a:srgbClr val="f3c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687240"/>
            <a:ext cx="10667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ts val="3600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Einführung – Daten, Information, Wissen (3 /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1040" y="1552680"/>
            <a:ext cx="9577440" cy="558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ir halten f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buClr>
                <a:srgbClr val="df0029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352080">
              <a:lnSpc>
                <a:spcPts val="3197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00000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Wissen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4000" spc="-1" strike="noStrike">
                <a:solidFill>
                  <a:srgbClr val="df0029"/>
                </a:solidFill>
                <a:latin typeface="Arial"/>
              </a:rPr>
              <a:t>=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Macht </a:t>
            </a:r>
            <a:r>
              <a:rPr b="1" lang="de-DE" sz="4000" spc="-1" strike="noStrike">
                <a:solidFill>
                  <a:srgbClr val="969696"/>
                </a:solidFill>
                <a:latin typeface="Arial"/>
              </a:rPr>
              <a:t>, aber: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nformation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4000" spc="-1" strike="noStrike">
                <a:solidFill>
                  <a:srgbClr val="df0029"/>
                </a:solidFill>
                <a:latin typeface="Arial"/>
                <a:ea typeface="Arial"/>
              </a:rPr>
              <a:t>≠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Wiss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00000"/>
              </a:lnSpc>
              <a:tabLst>
                <a:tab algn="l" pos="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00000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formation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df0029"/>
                </a:solidFill>
                <a:latin typeface="Arial"/>
              </a:rPr>
              <a:t>=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abler fü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c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00000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0400" indent="-398520">
              <a:lnSpc>
                <a:spcPct val="100000"/>
              </a:lnSpc>
              <a:buClr>
                <a:srgbClr val="df0029"/>
              </a:buClr>
              <a:buSzPct val="130000"/>
              <a:buFont typeface="Wingdings" charset="2"/>
              <a:buChar char="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formationsgesellschaft </a:t>
            </a:r>
            <a:r>
              <a:rPr b="1" lang="en-US" sz="4000" spc="-1" strike="noStrike">
                <a:solidFill>
                  <a:srgbClr val="df002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08:14:51Z</dcterms:created>
  <dc:creator/>
  <dc:description/>
  <dc:language>en-US</dc:language>
  <cp:lastModifiedBy>.</cp:lastModifiedBy>
  <cp:lastPrinted>2004-01-15T09:29:55Z</cp:lastPrinted>
  <dcterms:modified xsi:type="dcterms:W3CDTF">2004-12-28T02:53:27Z</dcterms:modified>
  <cp:revision>897</cp:revision>
  <dc:subject/>
  <dc:title>CCC Information - Knowledge - Power</dc:title>
</cp:coreProperties>
</file>