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0446-EA50-4747-A5E4-7EEDED5E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1FE8-ACD6-4D58-B435-D5E5E6DE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4949-73D8-4BF8-823E-A7F4A6E8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484E-2033-4755-8070-639B789C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B840-2D98-4846-AD15-74A5D5D1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839F-252C-4CE3-A1A0-C180FD65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6DDD-159A-49C4-9BDF-6BE434E6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26C8-7786-44A0-9128-9529D12C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6A20-0288-44BD-BAA4-C7EBDD59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129B-3787-41BE-B303-FCCBEAE3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BF57-5BF9-4C1C-9D10-A247C6EE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50E8-19F3-4A22-ADE8-340711EA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C6DB-8DEB-4305-92A4-3E5A092BE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ivilrechtliche Sanktione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r Verletzung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istigen Eigentu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in Überblick unter Berücksichtigung der europäischen Richtlinie zur Durchsetzung der Rechte des geistigen Eigentums (2004/48/E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lrike Mahlmann, Rechtsanwäl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gelungen im Überbl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erlassungsanspruch vorgeschrieben, evtl. Ausweitung der Haftung Dr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chnung von Schadensersatzansprüchen: lediglich sehr grobe Vorgaben, wahrscheinlich keine Änderung des dt. Rechts erforderlich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lierte Regelungen über die Tatsachenermitt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stiges (Erarbeitung von Verhaltenskodizes der Branche, Veröffentlichung von Gerichtsentscheidungen, Informationsaustaus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gelungen über die Tatsachenermittl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eweise (Art. 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ichte können auf Antrag einer Partei die Vorlage von Beweismitteln durch die andere Partei anordn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 gewerblichen Verstößen können die Gerichte die Vorlage von Bank-, Finanz- und Handelsunterlagen anord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weissicherungsmaßnahmen (Art. 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gen den angeblichen Verlet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 und wirksame Maßnahmen im Wege des einstweiligen Rechtsschutzes, z. B. Beschlagnahme rechtsverletzender Ware, zu Herstellung/Vertrieb verwendetes Material sowie sich darauf beziehende Unterl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htsinhaber muss „alle“ (?) vernünftigerweise verfügbaren Beweismittel vorgelegt ha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ch ohne Anhörung der betroffenen Partei, „insbesondere“, wen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icht wieder gut zu machender Schaden dro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der wenn nachweislich Gefahr der Beweisvernichtung beste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skunftsansprüche (Art. 8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kunft über: Inhalt: Vertriebswege und Preise rechtsverletzender Waren oder Dienstleistun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pflichtet: wer in gewerblichem Ausmaß und nachweisl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sverletzende Ware im Besitz hat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sverletzende Dienstleistungen in gewerblichem Ausmaß in Anspruch na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nstleistungen erbrachte, die für rechtsverletzende Tätigkeiten genutzt wurden oder wer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der wer von einem nach a)-c) Auskunftspflichtigen bezichtigt wird, an Rechtsverletzungen beteiligt gewesen zu 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essenabwägung durch die Rechtsprechung erforderlich (Gesuch muss verhältnismäßig se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instweilige Maßnahmen und Sicherungsmaßnahmen (Art. 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lassungsanordnungen ge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letz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telsperson, deren Dienste von einem Dritten zwecks Verletzung eines Rechts des geistigen Eigentums in Anspruch genommen werden (für Urheberrechtsverletzungen gilt jedoch weiterhin ausschließlich Art. 8 RL 2001/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chlagnahme oder Herausgabe möglicherweise rechtsverletzender W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Rechtsverletzungen in gewerblichem Ausmaß: vorsorgliche Beschlagnahme des Vermögens des angeblichen Verletzers und Herausgabe von Bank-, Finanz- und Handelsunterlagen oder Zugang daz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geeigneten Fällen ohne Anhörung der betroffenen Parte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www.ulixmann.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Intellectual Property 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= 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„geistige Eigentumsrechte“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im Deutschen lange nur umgangssprachlicher Begri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eichsetzung mit Eigentum wurde für unangebracht gehalten, da Schutzgegenstand zu unbestim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derkehr des Begriffs nun über das amerikanische und europäische Rec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tklauberei? Ja und nein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ögliche zivilrechtliche Ansprüche des Rechtsinhabe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terlassung und Beseitigung der Stö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hadensersatz (bei Vorsatz oder Fahrlässigke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tgangener Gewin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gemessene Lizenzgebü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erausgabe des Verletzergewin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erausgabe der ungerechtfertigten Bereich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nsprüche gegen Dr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. U. haftet ein Dritter für von ihm möglich gemachte Verletzungen selbst als Verlet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terlassungs- und Beseitigungsansprüche bestehen gegen einen Dritten bei „groben, unschwer zu erkennenden Verstößen“ (BGH, 11.03.2004 – I ZR 304/0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tent-Industrie versucht derzeit allgemeine Auskunftsansprüche gegen Provider einführen zu lass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chtsqu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vilprozessordnu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zialgesetze (Patentgesetz, Urheberrechtsgesetz, Markengesetz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ürgerliches Gesetzbu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terre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tsachenermittlung im Zivilproz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vilprozessordnu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relativ detailliertem Vortrag des Kläg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t eine Erklärungspflicht des Beklagten (§ 138 Abs. 3 BG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das Gericht die Vorlage von Unterlagen und sonstiger Beweismittel anordnen (§§ 142, 144 ZP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kunftsansprüche aus Spezialgesetzen und dem B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gen Verlet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. U. gegen Dritte, die Verletzung ermöglicht hab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äufig Interessenabwägung durch das Ger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halt der Auskunftsansprüch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fa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mfang der eigenen Verletzungshandlung sowie über Identität eventueller weiterer gewerblich handelnder Verlet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kunfterteilung, keine Herausgabe von Geschäftsunter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rausgabe sensibler Daten nur an einen zur Verschwiegenheit auch gegenüber dem Verletzten verpflichteten Dritten, z. B. Wirtschaftsprü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eitpunk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hrt sich der auf Auskunfterteilung in Anspruch Genommene, muss in der Regel erst der Auskunftsanspruch eingeklag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nahmsweise Durchsetzung von Auskunftsansprüchen im einstweiligen Verfügungsverfa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e Richtlinie „zur Durchsetzung der Rechte des geistigen Eigentums“ (RL 2004/48/E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ht unmittelbar anwend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utsches Recht ist bis 29. April 2006 anzup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e Regelungen, die für den Rechtsinhaber günstiger sind, gelten we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wendungsbere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vil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letzungen geistiger Eigentumsrechte (nicht näher defini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werbliche und nicht gewerbliche Verletzungshandlun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werbliche Verletzungshandlungen sind solche, die „zwecks Erlangung eines unmittelbaren oder mittelbaren wirtschaftlichen oder kommerziellen Vorteils vorgenommen werden; dies schließt in der Regel Handlungen aus, die in gutem Glauben von Endverbrauchern vorgenommen wer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chneidendere Maßnahmen bei gewerblichen Handl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gliedstaaten haben die Option, die schärferen Maßnahmen auch auf nicht gewerbliche Handlungen zu erstrec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1T10:11:05Z</dcterms:created>
  <dc:creator>Ulrike Mahlmann</dc:creator>
  <dc:description/>
  <dc:language>en-US</dc:language>
  <cp:lastModifiedBy>Ulrike Mahlmann</cp:lastModifiedBy>
  <dcterms:modified xsi:type="dcterms:W3CDTF">2004-12-27T17:01:57Z</dcterms:modified>
  <cp:revision>6</cp:revision>
  <dc:subject/>
  <dc:title>Zivilrechtliche Sanktionen  der Verletzung  geistigen Eigentums</dc:title>
</cp:coreProperties>
</file>