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99CB-23DD-45B1-BA39-60FC0C3CD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9225-F252-4B6F-ABF4-ED9A76142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922E-406C-417F-A2CF-1107BA32A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A301-E894-45D3-A010-150EC7799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557F-883F-4CE5-A74B-732D93AC5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BB9E-A795-49F7-933E-CCFD06D3A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58C1-FE8B-40EE-8099-3ECF13642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A502-727B-49ED-8F9B-6C0BF3A92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140F-CC61-4014-B876-75C9970B3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2E9C-186D-49CA-A537-32EB0CB10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7BC5-B04E-4A68-8407-ECC6EC2D8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8CF9-D87A-4E44-82AD-38452ADF4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0DA68-0334-4431-B691-C9627520E6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Zivilrechtliche Sanktionen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r Verletzung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eistigen Eigentu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Ein Überblick unter Berücksichtigung der europäischen Richtlinie zur Durchsetzung der Rechte des geistigen Eigentums (2004/48/E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lrike Mahlmann, Rechtsanwält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gelungen im Überbli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terlassungsanspruch vorgeschrieben, evtl. Ausweitung der Haftung Dri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rechnung von Schadensersatzansprüchen: lediglich sehr grobe Vorgaben, wahrscheinlich keine Änderung des dt. Rechts erforderlich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aillierte Regelungen über die Tatsachenermittl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nstiges (Erarbeitung von Verhaltenskodizes der Branche, Veröffentlichung von Gerichtsentscheidungen, Informationsaustausc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gelungen über die Tatsachenermittlu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eweise (Art. 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richte können auf Antrag einer Partei die Vorlage von Beweismitteln durch die andere Partei anordn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i gewerblichen Verstößen können die Gerichte die Vorlage von Bank-, Finanz- und Handelsunterlagen anord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eweissicherungsmaßnahmen (Art. 7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gen den angeblichen Verlet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hnelle und wirksame Maßnahmen im Wege des einstweiligen Rechtsschutzes, z. B. Beschlagnahme rechtsverletzender Ware, zu Herstellung/Vertrieb verwendetes Material sowie sich darauf beziehende Unterla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chtsinhaber muss „alle“ (?) vernünftigerweise verfügbaren Beweismittel vorgelegt hab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ch ohne Anhörung der betroffenen Partei, „insbesondere“, wen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icht wieder gut zu machender Schaden dro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der wenn nachweislich Gefahr der Beweisvernichtung beste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uskunftsansprüche (Art. 8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kunft über: Inhalt: Vertriebswege und Preise rechtsverletzender Waren oder Dienstleistung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pflichtet: wer in gewerblichem Ausmaß und nachweisli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chtsverletzende Ware im Besitz hat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chtsverletzende Dienstleistungen in gewerblichem Ausmaß in Anspruch na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nstleistungen erbrachte, die für rechtsverletzende Tätigkeiten genutzt wurden oder werd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der wer von einem nach a)-c) Auskunftspflichtigen bezichtigt wird, an Rechtsverletzungen beteiligt gewesen zu s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eressenabwägung durch die Rechtsprechung erforderlich (Gesuch muss verhältnismäßig se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instweilige Maßnahmen und Sicherungsmaßnahmen (Art. 9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terlassungsanordnungen geg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letz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ittelsperson, deren Dienste von einem Dritten zwecks Verletzung eines Rechts des geistigen Eigentums in Anspruch genommen werden (für Urheberrechtsverletzungen gilt jedoch weiterhin ausschließlich Art. 8 RL 2001/2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schlagnahme oder Herausgabe möglicherweise rechtsverletzender Wa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i Rechtsverletzungen in gewerblichem Ausmaß: vorsorgliche Beschlagnahme des Vermögens des angeblichen Verletzers und Herausgabe von Bank-, Finanz- und Handelsunterlagen oder Zugang daz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 geeigneten Fällen ohne Anhörung der betroffenen Parte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www.ulixmann.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Intellectual Property </a:t>
            </a:r>
            <a:br>
              <a:rPr sz="4000"/>
            </a:b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= </a:t>
            </a:r>
            <a:br>
              <a:rPr sz="4000"/>
            </a:b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„geistige Eigentumsrechte“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 im Deutschen lange nur umgangssprachlicher Begrif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eichsetzung mit Eigentum wurde für unangebracht gehalten, da Schutzgegenstand zu unbestimm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ederkehr des Begriffs nun über das amerikanische und europäische Rech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tklauberei? Ja und nein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ögliche zivilrechtliche Ansprüche des Rechtsinhaber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Unterlassung und Beseitigung der Stör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chadensersatz (bei Vorsatz oder Fahrlässigke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ntgangener Gewin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ngemessene Lizenzgebüh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Herausgabe des Verletzergewin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Herausgabe der ungerechtfertigten Bereicher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nsprüche gegen Dr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U. U. haftet ein Dritter für von ihm möglich gemachte Verletzungen selbst als Verletz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Unterlassungs- und Beseitigungsansprüche bestehen gegen einen Dritten bei „groben, unschwer zu erkennenden Verstößen“ (BGH, 11.03.2004 – I ZR 304/0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Content-Industrie versucht derzeit allgemeine Auskunftsansprüche gegen Provider einführen zu lass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chtsque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ivilprozessordnu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zialgesetze (Patentgesetz, Urheberrechtsgesetz, Markengesetz etc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ürgerliches Gesetzbu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hterre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atsachenermittlung im Zivilproz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ivilprozessordnung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 relativ detailliertem Vortrag des Kläg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steht eine Erklärungspflicht des Beklagten (§ 138 Abs. 3 BG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ann das Gericht die Vorlage von Unterlagen und sonstiger Beweismittel anordnen (§§ 142, 144 ZPO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kunftsansprüche aus Spezialgesetzen und dem BG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gen Verlet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. U. gegen Dritte, die Verletzung ermöglicht hab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äufig Interessenabwägung durch das Geri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halt der Auskunftsansprüch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mfang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mfang der eigenen Verletzungshandlung sowie über Identität eventueller weiterer gewerblich handelnder Verlet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orm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skunfterteilung, keine Herausgabe von Geschäftsunter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erausgabe sensibler Daten nur an einen zur Verschwiegenheit auch gegenüber dem Verletzten verpflichteten Dritten, z. B. Wirtschaftsprü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eitpunk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hrt sich der auf Auskunfterteilung in Anspruch Genommene, muss in der Regel erst der Auskunftsanspruch eingeklagt we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snahmsweise Durchsetzung von Auskunftsansprüchen im einstweiligen Verfügungsverfah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e Richtlinie „zur Durchsetzung der Rechte des geistigen Eigentums“ (RL 2004/48/EG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cht unmittelbar anwendb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utsches Recht ist bis 29. April 2006 anzupa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onale Regelungen, die für den Rechtsinhaber günstiger sind, gelten wei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nwendungsberei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ivilre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letzungen geistiger Eigentumsrechte (nicht näher definier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werbliche und nicht gewerbliche Verletzungshandlung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werbliche Verletzungshandlungen sind solche, die „zwecks Erlangung eines unmittelbaren oder mittelbaren wirtschaftlichen oder kommerziellen Vorteils vorgenommen werden; dies schließt in der Regel Handlungen aus, die in gutem Glauben von Endverbrauchern vorgenommen werd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schneidendere Maßnahmen bei gewerblichen Handl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itgliedstaaten haben die Option, die schärferen Maßnahmen auch auf nicht gewerbliche Handlungen zu erstrec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1T10:11:05Z</dcterms:created>
  <dc:creator>Ulrike Mahlmann</dc:creator>
  <dc:description/>
  <dc:language>en-US</dc:language>
  <cp:lastModifiedBy>Ulrike Mahlmann</cp:lastModifiedBy>
  <dcterms:modified xsi:type="dcterms:W3CDTF">2004-12-27T17:01:57Z</dcterms:modified>
  <cp:revision>6</cp:revision>
  <dc:subject/>
  <dc:title>Zivilrechtliche Sanktionen  der Verletzung  geistigen Eigentums</dc:title>
</cp:coreProperties>
</file>