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B0D-CAEF-4585-ABC2-75EDEFF0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56D-300B-4D42-ADCC-022F374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BDC-66B7-4621-857B-F19669CC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146-EA06-4148-A7C5-5601514F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E17-800D-4950-A8C4-03A39D0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A5F-CCA1-468A-BECF-8B52DA8C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DE7-120C-4C72-8A9A-B86309D8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639-CCA8-4B38-9180-CC591EF0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90A-D8FB-40AD-866E-0646BB5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AA2-4C0E-47CB-A358-F376314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C97-04BA-425E-9438-78690D16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AB6-F81E-44B2-9993-702FEE7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569-E403-436B-A1DD-D760AE5B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forcement of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llectual Property Rights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der German Privat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outline in view of the European Directiv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the Enforcement of Intellectual Property Rights (2004/48/E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lrike Mahlmann, Rechtsanwäl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rective 2004/48: A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unctions mandatory; possibly extension of third parties’ l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ation of damages: few and comparatively vague provisions, will probably not entail any changes to Germa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ed provisions on the fact-fin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(codes of conduct for the industry, publication of court decisions, et al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vidence (Art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ty can file for the court to order the other party to present evidence to the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ringements on a commercial scale: Courts can order one party to present bank, financial and commercial 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es for preserving evidence (Art. 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ders against the alleged inf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holder needs to present “reasonably available evidence to support his clai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„prompt and effective provisional measures“, e. g.,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izure of infringing goods, materials used for their production or distribution and documents relating the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the other party having been heard beforehand if necessary, in part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ny delay is likely to cause irreparable h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if there is a demonstrable risk of evidence being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ight of information (art. 8)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about distribution channels, the amount of infringing goods and the prices charg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persons who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n possession of the infringing goods on a commercial sc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to be using the infringing services on a commercial s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to be providing on a commercial scale services used in infringing activiti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ed by a person referred to under a)-c) as being involved in the production, manufacture or distribution of the goods or the provision of th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ing of interests by the courts (claimant’s request needs to be „proportionat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al and precautionary measures (art.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liminary injunctions agai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alleged infr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rmediary whose services are being used by a third party to infringe an intellectual property right“ (except for infringements of copyright or related rights; for these, art. 8 of the directive 2001/29 remains authorit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izure or delivery up of allegedly infringing go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ingements on a commercial scale: order for the precautionary seizure of the alleged infringer’s assets and the communication of bank, financial and commercial document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ppropriate cases the concerned party does not need to be heard beforeh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ww.ulixmann.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glish and German versions of the lecture and of the presentation headwords will be available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llectual Property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„geistige Eigentumsrechte“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rman, used to be a colloquial term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alogy to property was thought to be inappropr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naissance of the term now via American and European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re semantics? Yes and no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he rightholder’s private law remedies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junction: ord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ase infringing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interference with the right (prevent further infringements; provide information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itution of the infringer’s unjust enrichment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able licence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mages (in case of wilful or negligent infrin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st profit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sonable licence fe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unt of the profit made by the infr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ims against third parti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ome cases, someone who has made possible an infringement is liable as infringer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unction available against a third party in case of infringements that are “gross and easily perceptible” (BGH, March 11, 2004 – I ZR 304/0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industry is currently lobbying for information rights against internet service providers in gen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ources of the applicable law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vil Procedure Act (Zivilprozessordnu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tes concerning the relevant IP right (Patent Act, Copyright Act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vil Code (Bürgerliches Gesetzbuch, B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se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act-finding during civil li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the Code of Civil Procedure (ZP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arty is obliged to comment on sufficiently detailed (“substantiated”) allegations by the other party, Section 138 (3) Z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request of one party the court can order the other party or a third person to present documents or other evidence to the court (Sections 142 and 144 ZP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s to be informed under the BGB and IP la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gainst the infr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cases, against a third party who has made the infringemen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balancing of interests by the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ights to be 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p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t of the infring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ty of other infringers (suppliers, commercial custo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ment by the infringer; no access to infringer’s business files for the right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rt can order confidential data to be disclosed only to a third party who is under a professional duty to secrecy (usually, an accounta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 the request for information is declined the rightholder usually needs to obtain a final court decision confirming his right to be in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exceptional cases the right to be informed can be enforced through an interim i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uropean Directive „on the Enforcement of Intellectual Property Rights“ (2004/48/EC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implemented by 29 Apri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provisions that are more favourable for the rightholders remain un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vate law, not crimin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ingements of “intellectual property”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rcial and non-commercial infrin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rcial infringements are those “carried out for direct or indirect economic or commercial advantage”; this is said to “normally” exclude acts carried out by end-consumers acting in good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ar-reaching measures in case of (alleged) infringement on a commerci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have the option to extend the more incisive measures to non-commercial infring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09:21:35Z</dcterms:created>
  <dc:creator>Ulrike Mahlmann</dc:creator>
  <dc:description/>
  <dc:language>en-US</dc:language>
  <cp:lastModifiedBy>Ulrike Mahlmann</cp:lastModifiedBy>
  <dcterms:modified xsi:type="dcterms:W3CDTF">2004-12-29T09:46:09Z</dcterms:modified>
  <cp:revision>7</cp:revision>
  <dc:subject/>
  <dc:title>Enforcement of Intellectual Property Rights under German Private Law</dc:title>
</cp:coreProperties>
</file>