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D155-9DDE-42A2-8F39-ECFC9C70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0B96-B963-4CB7-B81F-EF3DEEE8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2B4E-AD77-4C19-ADC0-7A165016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2C33-1BF3-4D7E-89CF-A890AC7B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2814-1521-4B5C-86F2-4C94B703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1051-8CDA-4562-9D41-5AB00832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9437-2085-4DB4-9BE7-1F432458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AE89-E98C-48DC-814A-43E6F663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F5B5-3606-4F02-B4FF-F061BD17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D60B-B748-456B-BF5D-860D03DA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0243-DCF0-457F-9B47-68F45B91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CA8B-8D44-4848-A252-9016FF26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6B7A-3E2E-4782-949E-BE019CDC0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nforcement of 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Intellectual Property Rights 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under German Private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n outline in view of the European Directive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n the Enforcement of Intellectual Property Rights (2004/48/EC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lrike Mahlmann, Rechtsanwäl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Directive 2004/48: An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junctions mandatory; possibly extension of third parties’ li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utation of damages: few and comparatively vague provisions, will probably not entail any changes to German la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tailed provisions on the fact-find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(codes of conduct for the industry, publication of court decisions, et al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Evidence (Art. 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ty can file for the court to order the other party to present evidence to the co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fringements on a commercial scale: Courts can order one party to present bank, financial and commercial docu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asures for preserving evidence (Art. 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ders against the alleged infr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htholder needs to present “reasonably available evidence to support his claim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„prompt and effective provisional measures“, e. g.,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izure of infringing goods, materials used for their production or distribution and documents relating ther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out the other party having been heard beforehand if necessary, in parti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any delay is likely to cause irreparable h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if there is a demonstrable risk of evidence being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Right of information (art. 8)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about distribution channels, the amount of infringing goods and the prices charg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persons who w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nd in possession of the infringing goods on a commercial scal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nd to be using the infringing services on a commercial sca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nd to be providing on a commercial scale services used in infringing activities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cated by a person referred to under a)-c) as being involved in the production, manufacture or distribution of the goods or the provision of the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lancing of interests by the courts (claimant’s request needs to be „proportionate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visional and precautionary measures (art. 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liminary injunctions again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alleged infri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intermediary whose services are being used by a third party to infringe an intellectual property right“ (except for infringements of copyright or related rights; for these, art. 8 of the directive 2001/29 remains authorit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izure or delivery up of allegedly infringing go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ingements on a commercial scale: order for the precautionary seizure of the alleged infringer’s assets and the communication of bank, financial and commercial documents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ppropriate cases the concerned party does not need to be heard beforeh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ww.ulixmann.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glish and German versions of the lecture and of the presentation headwords will be available on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Intellectual Property 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= 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„geistige Eigentumsrechte“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rman, used to be a colloquial term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alogy to property was thought to be inappropri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naissance of the term now via American and European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ure semantics? Yes and no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The rightholder’s private law remedies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junction: order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ease infringing and/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p interference with the right (prevent further infringements; provide information…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titution of the infringer’s unjust enrichment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sonable licence 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mages (in case of wilful or negligent infringemen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st profit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sonable licence fee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ount of the profit made by the infrin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ims against third parti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some cases, someone who has made possible an infringement is liable as infringer him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junction available against a third party in case of infringements that are “gross and easily perceptible” (BGH, March 11, 2004 – I ZR 304/0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nt industry is currently lobbying for information rights against internet service providers in gene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ources of the applicable law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ivil Procedure Act (Zivilprozessordnun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utes concerning the relevant IP right (Patent Act, Copyright Act,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ivil Code (Bürgerliches Gesetzbuch, BG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ase l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act-finding during civil liti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 the Code of Civil Procedure (ZP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party is obliged to comment on sufficiently detailed (“substantiated”) allegations by the other party, Section 138 (3) Z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the request of one party the court can order the other party or a third person to present documents or other evidence to the court (Sections 142 and 144 ZP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hts to be informed under the BGB and IP la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gainst the infrin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some cases, against a third party who has made the infringement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ten balancing of interests by the cou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ights to be infor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op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tent of the infring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ty of other infringers (suppliers, commercial custo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ment by the infringer; no access to infringer’s business files for the righth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rt can order confidential data to be disclosed only to a third party who is under a professional duty to secrecy (usually, an accountan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i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f the request for information is declined the rightholder usually needs to obtain a final court decision confirming his right to be in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exceptional cases the right to be informed can be enforced through an interim inj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uropean Directive „on the Enforcement of Intellectual Property Rights“ (2004/48/EC)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be implemented by 29 April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tional provisions that are more favourable for the rightholders remain unaff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vate law, not criminal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ringements of “intellectual property”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mercial and non-commercial infring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ercial infringements are those “carried out for direct or indirect economic or commercial advantage”; this is said to “normally” exclude acts carried out by end-consumers acting in good fa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far-reaching measures in case of (alleged) infringement on a commercial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 states have the option to extend the more incisive measures to non-commercial infring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1T09:21:35Z</dcterms:created>
  <dc:creator>Ulrike Mahlmann</dc:creator>
  <dc:description/>
  <dc:language>en-US</dc:language>
  <cp:lastModifiedBy>Ulrike Mahlmann</cp:lastModifiedBy>
  <dcterms:modified xsi:type="dcterms:W3CDTF">2004-12-29T09:46:09Z</dcterms:modified>
  <cp:revision>7</cp:revision>
  <dc:subject/>
  <dc:title>Enforcement of Intellectual Property Rights under German Private Law</dc:title>
</cp:coreProperties>
</file>