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22.png" ContentType="image/pn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jpeg" ContentType="image/jpe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C44-0BC6-4D9C-AD4A-A634BB2C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AEE3-F7F6-47C5-AA72-865FEDB9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CC2-5D8B-4CC3-87A7-0ACF560A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1CD-CC69-4AFE-958C-6D0B4511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488-71D7-4427-8730-A92EB0E6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0DC-06AF-43FF-B954-DDAE355B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B0C-4068-42AC-9E50-8ED4735A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672C-441A-4939-AFDD-00D471E3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C9E-527B-4670-9E79-7EB4F63A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C80-A16C-48C9-B67E-A299C1A3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C82-EA54-4A77-BFBC-9ECFBED3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20B-91BC-4167-B921-C12EDB00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B65E-93AA-43FB-A3DF-AF8612C33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image" Target="../media/image8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5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0.wmf"/><Relationship Id="rId13" Type="http://schemas.openxmlformats.org/officeDocument/2006/relationships/image" Target="../media/image8.jpeg"/><Relationship Id="rId14" Type="http://schemas.openxmlformats.org/officeDocument/2006/relationships/image" Target="../media/image5.jpeg"/><Relationship Id="rId15" Type="http://schemas.openxmlformats.org/officeDocument/2006/relationships/image" Target="../media/image7.jpeg"/><Relationship Id="rId16" Type="http://schemas.openxmlformats.org/officeDocument/2006/relationships/image" Target="../media/image5.jpeg"/><Relationship Id="rId17" Type="http://schemas.openxmlformats.org/officeDocument/2006/relationships/image" Target="../media/image7.jpeg"/><Relationship Id="rId18" Type="http://schemas.openxmlformats.org/officeDocument/2006/relationships/image" Target="../media/image8.jpeg"/><Relationship Id="rId19" Type="http://schemas.openxmlformats.org/officeDocument/2006/relationships/oleObject" Target="../embeddings/oleObject3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10.wmf"/><Relationship Id="rId23" Type="http://schemas.openxmlformats.org/officeDocument/2006/relationships/image" Target="../media/image8.jpeg"/><Relationship Id="rId24" Type="http://schemas.openxmlformats.org/officeDocument/2006/relationships/image" Target="../media/image5.jpeg"/><Relationship Id="rId25" Type="http://schemas.openxmlformats.org/officeDocument/2006/relationships/image" Target="../media/image7.jpeg"/><Relationship Id="rId26" Type="http://schemas.openxmlformats.org/officeDocument/2006/relationships/image" Target="../media/image5.jpeg"/><Relationship Id="rId27" Type="http://schemas.openxmlformats.org/officeDocument/2006/relationships/image" Target="../media/image7.jpeg"/><Relationship Id="rId28" Type="http://schemas.openxmlformats.org/officeDocument/2006/relationships/image" Target="../media/image8.jpeg"/><Relationship Id="rId2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hyperlink" Target="http://europa.eu.int/information_society/topics/telecoms/regulatory/98_regpack/index_en.htm" TargetMode="External"/><Relationship Id="rId4" Type="http://schemas.openxmlformats.org/officeDocument/2006/relationships/hyperlink" Target="http://europa.eu.int/information_society/topics/telecoms/regulatory/new_rf/index_en.ht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8.jpeg"/><Relationship Id="rId14" Type="http://schemas.openxmlformats.org/officeDocument/2006/relationships/image" Target="../media/image5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5.jpeg"/><Relationship Id="rId18" Type="http://schemas.openxmlformats.org/officeDocument/2006/relationships/image" Target="../media/image7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14576"/>
          <a:stretch/>
        </p:blipFill>
        <p:spPr>
          <a:xfrm>
            <a:off x="762120" y="1854360"/>
            <a:ext cx="7353360" cy="2093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275440"/>
            <a:ext cx="9144000" cy="1582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952880"/>
            <a:ext cx="91440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3385e"/>
                </a:solidFill>
                <a:latin typeface="Sabon RomanSC"/>
              </a:rPr>
              <a:t>Jörg Müller-Kindt</a:t>
            </a:r>
            <a:br>
              <a:rPr sz="1800"/>
            </a:br>
            <a:r>
              <a:rPr b="0" lang="de-DE" sz="4800" spc="-1" strike="noStrike">
                <a:solidFill>
                  <a:srgbClr val="cedcd6"/>
                </a:solidFill>
                <a:latin typeface="Sabon RomanSC"/>
              </a:rPr>
              <a:t>tküv – das ohr am dra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edcd6"/>
                </a:solidFill>
                <a:latin typeface="Sabon"/>
              </a:rPr>
              <a:t>Vortrag 21C3 – 29. Dezember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3AE4-C24A-4CB1-ACCE-EB6AD85AFF50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26320" y="665280"/>
            <a:ext cx="53560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„</a:t>
            </a: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aktive“ und „passive“ e-mail überwach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34240" y="1700280"/>
            <a:ext cx="205884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abon"/>
              </a:rPr>
              <a:t>E-Mail Überwach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abon"/>
              </a:rPr>
              <a:t>Details in Anlage 9 TR-TKUE 4.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abon"/>
              </a:rPr>
              <a:t>Grundlage: ETSI TS 102 233 V 1.1.1 (2004-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abon"/>
              </a:rPr>
              <a:t>Frist zur Umsetzung: 31.12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abon"/>
              </a:rPr>
              <a:t>Aufbereitung der IRI in XML, Codierung des CC in base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344600" y="2739960"/>
          <a:ext cx="649440" cy="1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2739960"/>
                    <a:ext cx="64944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552600" y="2349360"/>
            <a:ext cx="399960" cy="7923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1344600" y="3244680"/>
            <a:ext cx="576360" cy="3286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09680" y="1628640"/>
            <a:ext cx="142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abon"/>
              </a:rPr>
              <a:t>Variant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abon"/>
              </a:rPr>
              <a:t>Modifikation 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abon"/>
              </a:rPr>
              <a:t>Mail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27280" y="1628640"/>
            <a:ext cx="172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abon"/>
              </a:rPr>
              <a:t>Variant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abon"/>
              </a:rPr>
              <a:t>Passiver Spli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2360" y="162864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Sabon"/>
              </a:rPr>
              <a:t>Variante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abon"/>
              </a:rPr>
              <a:t>über ApplicationProx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324440" y="3892680"/>
            <a:ext cx="572400" cy="350640"/>
            <a:chOff x="1324440" y="3892680"/>
            <a:chExt cx="572400" cy="350640"/>
          </a:xfrm>
        </p:grpSpPr>
        <p:pic>
          <p:nvPicPr>
            <p:cNvPr id="352" name="" descr=""/>
            <p:cNvPicPr/>
            <p:nvPr/>
          </p:nvPicPr>
          <p:blipFill>
            <a:blip r:embed="rId7"/>
            <a:stretch/>
          </p:blipFill>
          <p:spPr>
            <a:xfrm>
              <a:off x="1346040" y="3892680"/>
              <a:ext cx="505080" cy="3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1324440" y="395100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"/>
                </a:rPr>
                <a:t>Inter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1285920" y="4556160"/>
            <a:ext cx="576360" cy="32868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505440" y="3860640"/>
            <a:ext cx="572400" cy="351000"/>
            <a:chOff x="505440" y="3860640"/>
            <a:chExt cx="572400" cy="351000"/>
          </a:xfrm>
        </p:grpSpPr>
        <p:pic>
          <p:nvPicPr>
            <p:cNvPr id="356" name="" descr=""/>
            <p:cNvPicPr/>
            <p:nvPr/>
          </p:nvPicPr>
          <p:blipFill>
            <a:blip r:embed="rId9"/>
            <a:stretch/>
          </p:blipFill>
          <p:spPr>
            <a:xfrm>
              <a:off x="527040" y="3860640"/>
              <a:ext cx="50508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05440" y="391932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"/>
                </a:rPr>
                <a:t>Inter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912960" y="2852640"/>
            <a:ext cx="431640" cy="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44600" y="2421000"/>
            <a:ext cx="9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abon"/>
              </a:rPr>
              <a:t>Mediation De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33680" y="2924280"/>
            <a:ext cx="0" cy="36036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824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20720" y="3560760"/>
            <a:ext cx="0" cy="36036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95520" y="4203720"/>
            <a:ext cx="0" cy="36036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60600" y="4869000"/>
            <a:ext cx="0" cy="21564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1344600" y="5084640"/>
            <a:ext cx="399960" cy="7923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160280" y="58770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berechtig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St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2640" y="3141720"/>
            <a:ext cx="44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PoP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IM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576600" y="3970440"/>
          <a:ext cx="649440" cy="179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6600" y="3970440"/>
                    <a:ext cx="64944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0" name="" descr=""/>
          <p:cNvPicPr/>
          <p:nvPr/>
        </p:nvPicPr>
        <p:blipFill>
          <a:blip r:embed="rId13"/>
          <a:stretch/>
        </p:blipFill>
        <p:spPr>
          <a:xfrm>
            <a:off x="2784600" y="2301840"/>
            <a:ext cx="399960" cy="7923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14"/>
          <a:stretch/>
        </p:blipFill>
        <p:spPr>
          <a:xfrm>
            <a:off x="3576600" y="4278240"/>
            <a:ext cx="576360" cy="32868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3556440" y="4722840"/>
            <a:ext cx="572400" cy="350640"/>
            <a:chOff x="3556440" y="4722840"/>
            <a:chExt cx="572400" cy="350640"/>
          </a:xfrm>
        </p:grpSpPr>
        <p:pic>
          <p:nvPicPr>
            <p:cNvPr id="373" name="" descr=""/>
            <p:cNvPicPr/>
            <p:nvPr/>
          </p:nvPicPr>
          <p:blipFill>
            <a:blip r:embed="rId15"/>
            <a:stretch/>
          </p:blipFill>
          <p:spPr>
            <a:xfrm>
              <a:off x="3578040" y="4722840"/>
              <a:ext cx="505080" cy="3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556440" y="47811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"/>
                </a:rPr>
                <a:t>Inter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" descr=""/>
          <p:cNvPicPr/>
          <p:nvPr/>
        </p:nvPicPr>
        <p:blipFill>
          <a:blip r:embed="rId16"/>
          <a:stretch/>
        </p:blipFill>
        <p:spPr>
          <a:xfrm>
            <a:off x="3517920" y="5214960"/>
            <a:ext cx="576360" cy="32868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2737440" y="3813120"/>
            <a:ext cx="572400" cy="351000"/>
            <a:chOff x="2737440" y="3813120"/>
            <a:chExt cx="572400" cy="351000"/>
          </a:xfrm>
        </p:grpSpPr>
        <p:pic>
          <p:nvPicPr>
            <p:cNvPr id="377" name="" descr=""/>
            <p:cNvPicPr/>
            <p:nvPr/>
          </p:nvPicPr>
          <p:blipFill>
            <a:blip r:embed="rId17"/>
            <a:stretch/>
          </p:blipFill>
          <p:spPr>
            <a:xfrm>
              <a:off x="2759040" y="3813120"/>
              <a:ext cx="50508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737440" y="387180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"/>
                </a:rPr>
                <a:t>Inter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203640" y="3429000"/>
            <a:ext cx="360360" cy="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51280" y="3645000"/>
            <a:ext cx="9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abon"/>
              </a:rPr>
              <a:t>Mediation De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00240" y="30211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4581360"/>
            <a:ext cx="1440" cy="16992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8"/>
          <a:stretch/>
        </p:blipFill>
        <p:spPr>
          <a:xfrm>
            <a:off x="3648240" y="5661000"/>
            <a:ext cx="290520" cy="5763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987640" y="58053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berechtig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St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77360" y="3094200"/>
            <a:ext cx="44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PoP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IM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17720" y="3357720"/>
            <a:ext cx="360360" cy="14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abon"/>
              </a:rPr>
              <a:t>T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80000" y="5516640"/>
            <a:ext cx="0" cy="14436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51280" y="5032440"/>
            <a:ext cx="0" cy="21600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4149720"/>
            <a:ext cx="0" cy="14292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635280" y="3141720"/>
            <a:ext cx="95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abon"/>
              </a:rPr>
              <a:t>Snif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3564000" y="3351240"/>
          <a:ext cx="649080" cy="179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64000" y="3351240"/>
                    <a:ext cx="64908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3851280" y="3500280"/>
            <a:ext cx="0" cy="50508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5892840" y="3681360"/>
          <a:ext cx="649080" cy="179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892840" y="3681360"/>
                    <a:ext cx="64908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6" name="" descr=""/>
          <p:cNvPicPr/>
          <p:nvPr/>
        </p:nvPicPr>
        <p:blipFill>
          <a:blip r:embed="rId23"/>
          <a:stretch/>
        </p:blipFill>
        <p:spPr>
          <a:xfrm>
            <a:off x="5138640" y="2276640"/>
            <a:ext cx="400320" cy="7920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4"/>
          <a:stretch/>
        </p:blipFill>
        <p:spPr>
          <a:xfrm>
            <a:off x="5892840" y="3989520"/>
            <a:ext cx="576360" cy="32832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5872680" y="4433760"/>
            <a:ext cx="572400" cy="351000"/>
            <a:chOff x="5872680" y="4433760"/>
            <a:chExt cx="572400" cy="351000"/>
          </a:xfrm>
        </p:grpSpPr>
        <p:pic>
          <p:nvPicPr>
            <p:cNvPr id="399" name="" descr=""/>
            <p:cNvPicPr/>
            <p:nvPr/>
          </p:nvPicPr>
          <p:blipFill>
            <a:blip r:embed="rId25"/>
            <a:stretch/>
          </p:blipFill>
          <p:spPr>
            <a:xfrm>
              <a:off x="5894280" y="4433760"/>
              <a:ext cx="50508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872680" y="449244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"/>
                </a:rPr>
                <a:t>Inter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" descr=""/>
          <p:cNvPicPr/>
          <p:nvPr/>
        </p:nvPicPr>
        <p:blipFill>
          <a:blip r:embed="rId26"/>
          <a:stretch/>
        </p:blipFill>
        <p:spPr>
          <a:xfrm>
            <a:off x="5834160" y="4925880"/>
            <a:ext cx="576000" cy="328680"/>
          </a:xfrm>
          <a:prstGeom prst="rect">
            <a:avLst/>
          </a:prstGeom>
          <a:ln w="0">
            <a:noFill/>
          </a:ln>
        </p:spPr>
      </p:pic>
      <p:grpSp>
        <p:nvGrpSpPr>
          <p:cNvPr id="402" name=""/>
          <p:cNvGrpSpPr/>
          <p:nvPr/>
        </p:nvGrpSpPr>
        <p:grpSpPr>
          <a:xfrm>
            <a:off x="5069520" y="4775040"/>
            <a:ext cx="572400" cy="351000"/>
            <a:chOff x="5069520" y="4775040"/>
            <a:chExt cx="572400" cy="351000"/>
          </a:xfrm>
        </p:grpSpPr>
        <p:pic>
          <p:nvPicPr>
            <p:cNvPr id="403" name="" descr=""/>
            <p:cNvPicPr/>
            <p:nvPr/>
          </p:nvPicPr>
          <p:blipFill>
            <a:blip r:embed="rId27"/>
            <a:stretch/>
          </p:blipFill>
          <p:spPr>
            <a:xfrm>
              <a:off x="5091120" y="4775040"/>
              <a:ext cx="50508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069520" y="483372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"/>
                </a:rPr>
                <a:t>Inter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5557680" y="3762360"/>
            <a:ext cx="360360" cy="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19840" y="3282840"/>
            <a:ext cx="9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abon"/>
              </a:rPr>
              <a:t>Mediation De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64000" y="299556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67520" y="4292640"/>
            <a:ext cx="1440" cy="16992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8"/>
          <a:stretch/>
        </p:blipFill>
        <p:spPr>
          <a:xfrm>
            <a:off x="5964120" y="5372280"/>
            <a:ext cx="290520" cy="576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303520" y="55166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berechtig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St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44240" y="3067200"/>
            <a:ext cx="44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PoP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IM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92560" y="3691080"/>
            <a:ext cx="528840" cy="16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abon"/>
              </a:rPr>
              <a:t>PROX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5880" y="5227560"/>
            <a:ext cx="0" cy="14472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167520" y="4743360"/>
            <a:ext cx="0" cy="21600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67520" y="3860640"/>
            <a:ext cx="0" cy="142920"/>
          </a:xfrm>
          <a:prstGeom prst="line">
            <a:avLst/>
          </a:prstGeom>
          <a:ln w="9360">
            <a:solidFill>
              <a:srgbClr val="00548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3960" y="4011480"/>
            <a:ext cx="44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PoP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IM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"/>
              </a:rPr>
              <a:t>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6705720" cy="4572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91440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9E4A-DD81-4968-9F06-4BDFC2DDD03E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überwachung als dienstleis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34240" y="1700280"/>
            <a:ext cx="230976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abon"/>
              </a:rPr>
              <a:t>Outsourcing-Lös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Exemplarisches Beispiel der GTEN 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Grün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Sabon"/>
              </a:rPr>
              <a:t>Hohe Anforderungen für G10 Verpflicht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Sabon"/>
              </a:rPr>
              <a:t>24/7 Verfügbark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Sabon"/>
              </a:rPr>
              <a:t>Große, heterogene Infrastrukturen mit einer Vielzahl von Maßnah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abon"/>
              </a:rPr>
              <a:t>Quelle: GTEN A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95280" y="1773360"/>
            <a:ext cx="6132600" cy="4073400"/>
            <a:chOff x="395280" y="1773360"/>
            <a:chExt cx="6132600" cy="4073400"/>
          </a:xfrm>
        </p:grpSpPr>
        <p:pic>
          <p:nvPicPr>
            <p:cNvPr id="425" name="" descr=""/>
            <p:cNvPicPr/>
            <p:nvPr/>
          </p:nvPicPr>
          <p:blipFill>
            <a:blip r:embed="rId4"/>
            <a:stretch/>
          </p:blipFill>
          <p:spPr>
            <a:xfrm>
              <a:off x="396720" y="1776240"/>
              <a:ext cx="159228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5"/>
            <a:stretch/>
          </p:blipFill>
          <p:spPr>
            <a:xfrm>
              <a:off x="1989000" y="1776240"/>
              <a:ext cx="161460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6"/>
            <a:stretch/>
          </p:blipFill>
          <p:spPr>
            <a:xfrm>
              <a:off x="3603600" y="1773360"/>
              <a:ext cx="1592280" cy="13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7"/>
            <a:stretch/>
          </p:blipFill>
          <p:spPr>
            <a:xfrm>
              <a:off x="5194440" y="1776240"/>
              <a:ext cx="133344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8"/>
            <a:stretch/>
          </p:blipFill>
          <p:spPr>
            <a:xfrm>
              <a:off x="395280" y="3078000"/>
              <a:ext cx="1592280" cy="138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9"/>
            <a:stretch/>
          </p:blipFill>
          <p:spPr>
            <a:xfrm>
              <a:off x="1989000" y="3079800"/>
              <a:ext cx="161460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10"/>
            <a:stretch/>
          </p:blipFill>
          <p:spPr>
            <a:xfrm>
              <a:off x="3600360" y="3079800"/>
              <a:ext cx="159228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11"/>
            <a:stretch/>
          </p:blipFill>
          <p:spPr>
            <a:xfrm>
              <a:off x="5192640" y="3075120"/>
              <a:ext cx="1332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12"/>
            <a:stretch/>
          </p:blipFill>
          <p:spPr>
            <a:xfrm>
              <a:off x="396720" y="4460760"/>
              <a:ext cx="159228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13"/>
            <a:stretch/>
          </p:blipFill>
          <p:spPr>
            <a:xfrm>
              <a:off x="1986120" y="4467240"/>
              <a:ext cx="161424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4"/>
            <a:stretch/>
          </p:blipFill>
          <p:spPr>
            <a:xfrm>
              <a:off x="3600360" y="4464000"/>
              <a:ext cx="159228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5"/>
            <a:stretch/>
          </p:blipFill>
          <p:spPr>
            <a:xfrm>
              <a:off x="5192640" y="4467240"/>
              <a:ext cx="133200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25920" cy="8352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6080040"/>
            <a:ext cx="9144000" cy="7779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91440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AAC1-99B3-4F1C-86FF-A773C44BECEB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www.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ausblick 1: ip-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5640" y="1844640"/>
            <a:ext cx="8064360" cy="52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Sabon"/>
              </a:rPr>
              <a:t>Vorläufiges Verfahren seit Juni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Für den „unmittelbaren teilnehmerbezogenen Internet-Zugang“ über xDSL, Kabel, Power-Line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Wireless Local Loop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Variante I: Am Ort der Telekommunikationsanl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Variante II: Über Wählverbind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Variante III: über festgeschaltete Verbindungen nach § 9 Abs. II TKÜ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Sabon"/>
              </a:rPr>
              <a:t>Grundlage für die Zukunft: ETSI TS 102 234 V 1.1.1 (2004-0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Referenzmodelle für Dial, xDSL, Kabel und W-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Intercept Related Information  aus RADIUS und DHCP als XML-Date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Grundsatz: IP-basierte Übergabe, dh. auch abgefangene ATM Daten (xDSL) müssen in IP eingepackt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25920" cy="835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0" y="6080040"/>
            <a:ext cx="9144000" cy="7779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91440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8CB8-3395-4092-B7B6-5D272A79B6E7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www.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ausblick 2: vo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5640" y="1844640"/>
            <a:ext cx="8064360" cy="46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Sabon"/>
              </a:rPr>
              <a:t>Stand heu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IP zu IP – keine Überwa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IP von und zu PSTN – Ausleitung über ISDN am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Sabon"/>
              </a:rPr>
              <a:t>Für die Zukunft: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Nach dem Muster von ETSI TS 102 227, Intercept Related Information als XML aus SIP, H.323 oder H.248 Informa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Filtern und Ausleitung von RTP-Daten für den Content of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Konkrete Implementation (USA): Packet Cable ™ Electronic Surveillance Specification (PKT-SP-ESP-I04-040723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25920" cy="835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080040"/>
            <a:ext cx="9144000" cy="777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EED9-8FE1-48FE-9954-2F62BD09AC08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Glied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8960" y="1692360"/>
            <a:ext cx="753660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Entwicklung Kommunikationsnet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Entwicklung Telekommunikationsrecht und TK-Überwa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Systematik Recht Telekommunikations-Überwa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Übersicht über die europäischen Norm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Architektur IP-VPN der Regulierungsbehörde für Telekommunikation und Post (RegT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„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Aktive“ und „passive“ E-Mail Überwa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Überwachung als Dienstleis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Ausblick 1: IP-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Ausblick 2: Voice over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buClr>
                <a:srgbClr val="ffffff"/>
              </a:buClr>
              <a:buSzPct val="13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670572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744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1E53-643A-4598-B8FA-48F7F0A07101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entwicklung kommunikationsn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65480" y="2487600"/>
            <a:ext cx="20232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abon"/>
              </a:rPr>
              <a:t>Vergangenhe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Trennung des Sprach-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und Datenverke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abon"/>
              </a:rPr>
              <a:t>Quelle: ITU NGN focus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4617000" y="3933000"/>
            <a:ext cx="806400" cy="1957320"/>
          </a:xfrm>
          <a:prstGeom prst="can">
            <a:avLst>
              <a:gd name="adj" fmla="val 10009"/>
            </a:avLst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103400" y="2349360"/>
            <a:ext cx="5182920" cy="1844280"/>
            <a:chOff x="1103400" y="2349360"/>
            <a:chExt cx="5182920" cy="1844280"/>
          </a:xfrm>
        </p:grpSpPr>
        <p:sp>
          <p:nvSpPr>
            <p:cNvPr id="60" name=""/>
            <p:cNvSpPr/>
            <p:nvPr/>
          </p:nvSpPr>
          <p:spPr>
            <a:xfrm rot="16200000">
              <a:off x="5882760" y="2723400"/>
              <a:ext cx="403560" cy="4035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103400" y="2349360"/>
              <a:ext cx="4951800" cy="1844280"/>
              <a:chOff x="1103400" y="2349360"/>
              <a:chExt cx="4951800" cy="1844280"/>
            </a:xfrm>
          </p:grpSpPr>
          <p:sp>
            <p:nvSpPr>
              <p:cNvPr id="62" name=""/>
              <p:cNvSpPr/>
              <p:nvPr/>
            </p:nvSpPr>
            <p:spPr>
              <a:xfrm rot="16200000">
                <a:off x="4068360" y="2205720"/>
                <a:ext cx="1843200" cy="2130120"/>
              </a:xfrm>
              <a:prstGeom prst="can">
                <a:avLst>
                  <a:gd name="adj" fmla="val 16564"/>
                </a:avLst>
              </a:prstGeom>
              <a:solidFill>
                <a:srgbClr val="00548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3407040" y="2320920"/>
                <a:ext cx="402120" cy="120960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6200000">
                <a:off x="3292560" y="3486960"/>
                <a:ext cx="402120" cy="403560"/>
              </a:xfrm>
              <a:prstGeom prst="can">
                <a:avLst>
                  <a:gd name="adj" fmla="val 25000"/>
                </a:avLst>
              </a:prstGeom>
              <a:solidFill>
                <a:srgbClr val="a6ab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16200000">
                <a:off x="1419120" y="2206800"/>
                <a:ext cx="1843200" cy="2130120"/>
              </a:xfrm>
              <a:prstGeom prst="can">
                <a:avLst>
                  <a:gd name="adj" fmla="val 13643"/>
                </a:avLst>
              </a:prstGeom>
              <a:solidFill>
                <a:srgbClr val="00548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1104120" y="2695680"/>
                <a:ext cx="402120" cy="4035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6200000">
                <a:off x="1104120" y="3485520"/>
                <a:ext cx="402120" cy="403560"/>
              </a:xfrm>
              <a:prstGeom prst="can">
                <a:avLst>
                  <a:gd name="adj" fmla="val 25000"/>
                </a:avLst>
              </a:prstGeom>
              <a:solidFill>
                <a:srgbClr val="a6ab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1736640" y="2930400"/>
            <a:ext cx="190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Circuit Switched Access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84800" y="292428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Circui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Transport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27560" y="464652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Transport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41760" y="3683160"/>
            <a:ext cx="371520" cy="1388880"/>
          </a:xfrm>
          <a:custGeom>
            <a:avLst/>
            <a:gdLst/>
            <a:ahLst/>
            <a:rect l="l" t="t" r="r" b="b"/>
            <a:pathLst>
              <a:path w="234" h="875">
                <a:moveTo>
                  <a:pt x="26" y="0"/>
                </a:moveTo>
                <a:cubicBezTo>
                  <a:pt x="42" y="11"/>
                  <a:pt x="62" y="17"/>
                  <a:pt x="74" y="32"/>
                </a:cubicBezTo>
                <a:cubicBezTo>
                  <a:pt x="162" y="142"/>
                  <a:pt x="0" y="20"/>
                  <a:pt x="138" y="112"/>
                </a:cubicBezTo>
                <a:cubicBezTo>
                  <a:pt x="187" y="308"/>
                  <a:pt x="111" y="471"/>
                  <a:pt x="74" y="656"/>
                </a:cubicBezTo>
                <a:cubicBezTo>
                  <a:pt x="77" y="676"/>
                  <a:pt x="92" y="847"/>
                  <a:pt x="138" y="864"/>
                </a:cubicBezTo>
                <a:cubicBezTo>
                  <a:pt x="168" y="875"/>
                  <a:pt x="202" y="864"/>
                  <a:pt x="234" y="864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hone3"/>
          <p:cNvSpPr/>
          <p:nvPr/>
        </p:nvSpPr>
        <p:spPr>
          <a:xfrm>
            <a:off x="501480" y="2637000"/>
            <a:ext cx="457200" cy="457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mputr2"/>
          <p:cNvSpPr/>
          <p:nvPr/>
        </p:nvSpPr>
        <p:spPr>
          <a:xfrm>
            <a:off x="382680" y="3429000"/>
            <a:ext cx="720720" cy="576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9904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99040" y="5084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670572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1744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9525-61FF-4F73-B827-4327BD810CB4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entwicklung kommunikationsn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65480" y="2487600"/>
            <a:ext cx="20232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abon"/>
              </a:rPr>
              <a:t>Gegenw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Trennung des Sprach-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und Daten-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abon"/>
              </a:rPr>
              <a:t>Quelle: ITU NGN focus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89160" y="2349000"/>
            <a:ext cx="5413320" cy="1440000"/>
            <a:chOff x="1289160" y="2349000"/>
            <a:chExt cx="5413320" cy="1440000"/>
          </a:xfrm>
        </p:grpSpPr>
        <p:grpSp>
          <p:nvGrpSpPr>
            <p:cNvPr id="84" name=""/>
            <p:cNvGrpSpPr/>
            <p:nvPr/>
          </p:nvGrpSpPr>
          <p:grpSpPr>
            <a:xfrm>
              <a:off x="1289160" y="2349000"/>
              <a:ext cx="5182920" cy="1440000"/>
              <a:chOff x="1289160" y="2349000"/>
              <a:chExt cx="5182920" cy="1440000"/>
            </a:xfrm>
          </p:grpSpPr>
          <p:sp>
            <p:nvSpPr>
              <p:cNvPr id="85" name=""/>
              <p:cNvSpPr/>
              <p:nvPr/>
            </p:nvSpPr>
            <p:spPr>
              <a:xfrm rot="16200000">
                <a:off x="6112800" y="2597040"/>
                <a:ext cx="315000" cy="4035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1289160" y="2349000"/>
                <a:ext cx="4951800" cy="1440000"/>
                <a:chOff x="1289160" y="2349000"/>
                <a:chExt cx="4951800" cy="1440000"/>
              </a:xfrm>
            </p:grpSpPr>
            <p:sp>
              <p:nvSpPr>
                <p:cNvPr id="87" name=""/>
                <p:cNvSpPr/>
                <p:nvPr/>
              </p:nvSpPr>
              <p:spPr>
                <a:xfrm rot="16200000">
                  <a:off x="4456440" y="2003400"/>
                  <a:ext cx="1438920" cy="2130120"/>
                </a:xfrm>
                <a:prstGeom prst="can">
                  <a:avLst>
                    <a:gd name="adj" fmla="val 16564"/>
                  </a:avLst>
                </a:prstGeom>
                <a:solidFill>
                  <a:srgbClr val="00548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6200000">
                  <a:off x="3637080" y="2194920"/>
                  <a:ext cx="313920" cy="120960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6200000">
                  <a:off x="3522240" y="3193200"/>
                  <a:ext cx="313920" cy="403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a6aba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6200000">
                  <a:off x="1807200" y="2004480"/>
                  <a:ext cx="1438920" cy="2130120"/>
                </a:xfrm>
                <a:prstGeom prst="can">
                  <a:avLst>
                    <a:gd name="adj" fmla="val 13643"/>
                  </a:avLst>
                </a:prstGeom>
                <a:solidFill>
                  <a:srgbClr val="00548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16200000">
                  <a:off x="1333800" y="2575800"/>
                  <a:ext cx="313920" cy="403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16200000">
                  <a:off x="1333800" y="3192120"/>
                  <a:ext cx="313920" cy="403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a6aba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" name=""/>
            <p:cNvSpPr/>
            <p:nvPr/>
          </p:nvSpPr>
          <p:spPr>
            <a:xfrm>
              <a:off x="1922400" y="2802960"/>
              <a:ext cx="190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Sabon MT"/>
                </a:rPr>
                <a:t>Circuit Switched Access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0560" y="2799000"/>
              <a:ext cx="213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Sabon MT"/>
                </a:rPr>
                <a:t>Circuit Switched </a:t>
              </a:r>
              <a:br>
                <a:rPr sz="1400"/>
              </a:br>
              <a:r>
                <a:rPr b="0" lang="de-DE" sz="1400" spc="-1" strike="noStrike">
                  <a:solidFill>
                    <a:srgbClr val="ffffff"/>
                  </a:solidFill>
                  <a:latin typeface="Sabon MT"/>
                </a:rPr>
                <a:t>Transport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327560" y="464652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Transport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3357720"/>
            <a:ext cx="360360" cy="1295280"/>
          </a:xfrm>
          <a:custGeom>
            <a:avLst/>
            <a:gdLst/>
            <a:ahLst/>
            <a:rect l="l" t="t" r="r" b="b"/>
            <a:pathLst>
              <a:path w="234" h="875">
                <a:moveTo>
                  <a:pt x="26" y="0"/>
                </a:moveTo>
                <a:cubicBezTo>
                  <a:pt x="42" y="11"/>
                  <a:pt x="62" y="17"/>
                  <a:pt x="74" y="32"/>
                </a:cubicBezTo>
                <a:cubicBezTo>
                  <a:pt x="162" y="142"/>
                  <a:pt x="0" y="20"/>
                  <a:pt x="138" y="112"/>
                </a:cubicBezTo>
                <a:cubicBezTo>
                  <a:pt x="187" y="308"/>
                  <a:pt x="111" y="471"/>
                  <a:pt x="74" y="656"/>
                </a:cubicBezTo>
                <a:cubicBezTo>
                  <a:pt x="77" y="676"/>
                  <a:pt x="92" y="847"/>
                  <a:pt x="138" y="864"/>
                </a:cubicBezTo>
                <a:cubicBezTo>
                  <a:pt x="168" y="875"/>
                  <a:pt x="202" y="864"/>
                  <a:pt x="234" y="864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hone3"/>
          <p:cNvSpPr/>
          <p:nvPr/>
        </p:nvSpPr>
        <p:spPr>
          <a:xfrm>
            <a:off x="501480" y="2637000"/>
            <a:ext cx="457200" cy="457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computr2"/>
          <p:cNvSpPr/>
          <p:nvPr/>
        </p:nvSpPr>
        <p:spPr>
          <a:xfrm>
            <a:off x="179280" y="4724280"/>
            <a:ext cx="720720" cy="576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904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99040" y="5084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 rot="5400000">
            <a:off x="6114240" y="4863600"/>
            <a:ext cx="315720" cy="403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 rot="5400000">
            <a:off x="4457520" y="3731040"/>
            <a:ext cx="1438200" cy="2130480"/>
          </a:xfrm>
          <a:prstGeom prst="can">
            <a:avLst>
              <a:gd name="adj" fmla="val 16564"/>
            </a:avLst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 rot="5400000">
            <a:off x="3638520" y="4459680"/>
            <a:ext cx="314280" cy="12096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 rot="5400000">
            <a:off x="1809000" y="3730320"/>
            <a:ext cx="1438200" cy="2128680"/>
          </a:xfrm>
          <a:prstGeom prst="can">
            <a:avLst>
              <a:gd name="adj" fmla="val 13643"/>
            </a:avLst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 rot="5400000">
            <a:off x="1334880" y="4885200"/>
            <a:ext cx="314280" cy="403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456732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Transport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458136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Access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414600"/>
            <a:ext cx="371520" cy="1586160"/>
          </a:xfrm>
          <a:custGeom>
            <a:avLst/>
            <a:gdLst/>
            <a:ahLst/>
            <a:rect l="l" t="t" r="r" b="b"/>
            <a:pathLst>
              <a:path w="234" h="999">
                <a:moveTo>
                  <a:pt x="0" y="999"/>
                </a:moveTo>
                <a:cubicBezTo>
                  <a:pt x="21" y="992"/>
                  <a:pt x="43" y="991"/>
                  <a:pt x="63" y="981"/>
                </a:cubicBezTo>
                <a:cubicBezTo>
                  <a:pt x="86" y="969"/>
                  <a:pt x="105" y="950"/>
                  <a:pt x="126" y="936"/>
                </a:cubicBezTo>
                <a:cubicBezTo>
                  <a:pt x="146" y="877"/>
                  <a:pt x="176" y="828"/>
                  <a:pt x="189" y="765"/>
                </a:cubicBezTo>
                <a:cubicBezTo>
                  <a:pt x="182" y="677"/>
                  <a:pt x="170" y="598"/>
                  <a:pt x="153" y="513"/>
                </a:cubicBezTo>
                <a:cubicBezTo>
                  <a:pt x="147" y="451"/>
                  <a:pt x="146" y="392"/>
                  <a:pt x="126" y="333"/>
                </a:cubicBezTo>
                <a:cubicBezTo>
                  <a:pt x="128" y="268"/>
                  <a:pt x="77" y="0"/>
                  <a:pt x="234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40" y="1523880"/>
            <a:ext cx="6705720" cy="4572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1744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11B7-46B4-4FF0-B296-F3F8B082C811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entwicklung kommunikationsn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42800" y="2487600"/>
            <a:ext cx="21481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abon"/>
              </a:rPr>
              <a:t>Nahe Zukunf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Integration des Sprach-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und Daten-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abon"/>
              </a:rPr>
              <a:t>Quelle: ITU NGN focus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4701240" y="1758240"/>
            <a:ext cx="935280" cy="2117520"/>
          </a:xfrm>
          <a:prstGeom prst="can">
            <a:avLst>
              <a:gd name="adj" fmla="val 16564"/>
            </a:avLst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1807200" y="2005200"/>
            <a:ext cx="1438200" cy="2129040"/>
          </a:xfrm>
          <a:prstGeom prst="can">
            <a:avLst>
              <a:gd name="adj" fmla="val 13643"/>
            </a:avLst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333440" y="2576520"/>
            <a:ext cx="314640" cy="403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2400" y="2803680"/>
            <a:ext cx="190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Circuit Switched Access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0560" y="255096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Circui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Transport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27560" y="464652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Transport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hone3"/>
          <p:cNvSpPr/>
          <p:nvPr/>
        </p:nvSpPr>
        <p:spPr>
          <a:xfrm>
            <a:off x="501480" y="2637000"/>
            <a:ext cx="457200" cy="457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mputr2"/>
          <p:cNvSpPr/>
          <p:nvPr/>
        </p:nvSpPr>
        <p:spPr>
          <a:xfrm>
            <a:off x="324000" y="4797360"/>
            <a:ext cx="720720" cy="576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9904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99040" y="5084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 rot="5400000">
            <a:off x="6114240" y="4863600"/>
            <a:ext cx="315720" cy="403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422100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Transport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458136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Access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2781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2781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9200" y="3121200"/>
            <a:ext cx="411480" cy="793440"/>
          </a:xfrm>
          <a:custGeom>
            <a:avLst/>
            <a:gdLst/>
            <a:ahLst/>
            <a:rect l="l" t="t" r="r" b="b"/>
            <a:pathLst>
              <a:path w="259" h="500">
                <a:moveTo>
                  <a:pt x="0" y="0"/>
                </a:moveTo>
                <a:cubicBezTo>
                  <a:pt x="55" y="18"/>
                  <a:pt x="28" y="11"/>
                  <a:pt x="79" y="21"/>
                </a:cubicBezTo>
                <a:cubicBezTo>
                  <a:pt x="129" y="55"/>
                  <a:pt x="112" y="36"/>
                  <a:pt x="137" y="72"/>
                </a:cubicBezTo>
                <a:cubicBezTo>
                  <a:pt x="139" y="79"/>
                  <a:pt x="140" y="87"/>
                  <a:pt x="144" y="93"/>
                </a:cubicBezTo>
                <a:cubicBezTo>
                  <a:pt x="147" y="99"/>
                  <a:pt x="155" y="102"/>
                  <a:pt x="158" y="108"/>
                </a:cubicBezTo>
                <a:cubicBezTo>
                  <a:pt x="172" y="136"/>
                  <a:pt x="180" y="171"/>
                  <a:pt x="187" y="201"/>
                </a:cubicBezTo>
                <a:cubicBezTo>
                  <a:pt x="163" y="301"/>
                  <a:pt x="168" y="256"/>
                  <a:pt x="180" y="410"/>
                </a:cubicBezTo>
                <a:cubicBezTo>
                  <a:pt x="181" y="428"/>
                  <a:pt x="213" y="488"/>
                  <a:pt x="230" y="496"/>
                </a:cubicBezTo>
                <a:cubicBezTo>
                  <a:pt x="239" y="500"/>
                  <a:pt x="249" y="496"/>
                  <a:pt x="259" y="496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6056280" y="3671280"/>
            <a:ext cx="314280" cy="403200"/>
          </a:xfrm>
          <a:prstGeom prst="can">
            <a:avLst>
              <a:gd name="adj" fmla="val 25000"/>
            </a:avLst>
          </a:prstGeom>
          <a:solidFill>
            <a:srgbClr val="a6ab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 rot="5400000">
            <a:off x="4132800" y="3406320"/>
            <a:ext cx="2087640" cy="2130480"/>
          </a:xfrm>
          <a:prstGeom prst="can">
            <a:avLst>
              <a:gd name="adj" fmla="val 16564"/>
            </a:avLst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997080" y="3671280"/>
            <a:ext cx="314280" cy="403200"/>
          </a:xfrm>
          <a:prstGeom prst="can">
            <a:avLst>
              <a:gd name="adj" fmla="val 25000"/>
            </a:avLst>
          </a:prstGeom>
          <a:solidFill>
            <a:srgbClr val="a6ab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5400000">
            <a:off x="3638520" y="4459680"/>
            <a:ext cx="314280" cy="12096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 rot="5400000">
            <a:off x="1809000" y="3730320"/>
            <a:ext cx="1438200" cy="2128680"/>
          </a:xfrm>
          <a:prstGeom prst="can">
            <a:avLst>
              <a:gd name="adj" fmla="val 13643"/>
            </a:avLst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 rot="5400000">
            <a:off x="1334880" y="4885200"/>
            <a:ext cx="314280" cy="403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29264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Transport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450864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Packet Switched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 MT"/>
              </a:rPr>
              <a:t>Access 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1440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F667-9FA9-4B5D-8209-0E36E424ECDC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entwicklung telekommunikationsre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99320" y="1773360"/>
            <a:ext cx="2309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Parallel: Entwicklung vom „Fernmelde-“ zum Telekommunikations-recht. Von der „Sprachtelefonie“ zur Telekommunik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1968: Einführung der Telefonüberwachung mit dem G10 Gesetz als Teil der Notstandsgeset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1973: 100 Maßna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1999: rd. 1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2002: rd. 26.000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(davon 5 E-Ma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4920" y="2565360"/>
            <a:ext cx="6659640" cy="399960"/>
            <a:chOff x="34920" y="2565360"/>
            <a:chExt cx="6659640" cy="399960"/>
          </a:xfrm>
        </p:grpSpPr>
        <p:sp>
          <p:nvSpPr>
            <p:cNvPr id="147" name=""/>
            <p:cNvSpPr/>
            <p:nvPr/>
          </p:nvSpPr>
          <p:spPr>
            <a:xfrm>
              <a:off x="34920" y="2855880"/>
              <a:ext cx="665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9640" y="2747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79360" y="2747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19440" y="27496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59160" y="2747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98880" y="2747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40040" y="2747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79760" y="27496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19840" y="2747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59560" y="2747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00720" y="2747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440" y="25671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5616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380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5288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0088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3268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6916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9448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20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5328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2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1560" y="2565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2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95280" y="1628640"/>
            <a:ext cx="1297080" cy="792360"/>
          </a:xfrm>
          <a:prstGeom prst="borderCallout2">
            <a:avLst>
              <a:gd name="adj1" fmla="val 18750"/>
              <a:gd name="adj2" fmla="val -8333"/>
              <a:gd name="adj3" fmla="val 14430"/>
              <a:gd name="adj4" fmla="val -15421"/>
              <a:gd name="adj5" fmla="val 153708"/>
              <a:gd name="adj6" fmla="val -25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M 96/C329/01: EU Council Resolution on the Lawful Interception of Telecommunications (17.01.199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3357720"/>
            <a:ext cx="792000" cy="358560"/>
          </a:xfrm>
          <a:prstGeom prst="borderCallout2">
            <a:avLst>
              <a:gd name="adj1" fmla="val 18750"/>
              <a:gd name="adj2" fmla="val -8333"/>
              <a:gd name="adj3" fmla="val 31856"/>
              <a:gd name="adj4" fmla="val -13828"/>
              <a:gd name="adj5" fmla="val -140708"/>
              <a:gd name="adj6" fmla="val -182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KG vom 25. Juli 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3284640"/>
            <a:ext cx="936720" cy="474480"/>
          </a:xfrm>
          <a:prstGeom prst="borderCallout2">
            <a:avLst>
              <a:gd name="adj1" fmla="val 18750"/>
              <a:gd name="adj2" fmla="val -8333"/>
              <a:gd name="adj3" fmla="val 24078"/>
              <a:gd name="adj4" fmla="val -15425"/>
              <a:gd name="adj5" fmla="val -90967"/>
              <a:gd name="adj6" fmla="val -230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. Januar 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egTP nimmt ihre Arbeit au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6640" y="3933720"/>
            <a:ext cx="1413000" cy="863640"/>
          </a:xfrm>
          <a:prstGeom prst="borderCallout2">
            <a:avLst>
              <a:gd name="adj1" fmla="val 18750"/>
              <a:gd name="adj2" fmla="val -8333"/>
              <a:gd name="adj3" fmla="val 13236"/>
              <a:gd name="adj4" fmla="val -15731"/>
              <a:gd name="adj5" fmla="val -126287"/>
              <a:gd name="adj6" fmla="val -26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ernmelde-Überwachungsverorndung (FÜV) vom 18.05.1995 auf Grundlage des §10b Satz 2 des FAG (3. Juli 1989; geändert 14.09.199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3357720"/>
            <a:ext cx="846360" cy="403200"/>
          </a:xfrm>
          <a:prstGeom prst="borderCallout2">
            <a:avLst>
              <a:gd name="adj1" fmla="val 18750"/>
              <a:gd name="adj2" fmla="val -8333"/>
              <a:gd name="adj3" fmla="val 28347"/>
              <a:gd name="adj4" fmla="val 122138"/>
              <a:gd name="adj5" fmla="val -122833"/>
              <a:gd name="adj6" fmla="val 1354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KG vom 22. Juni 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46240" y="4292640"/>
            <a:ext cx="144612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135347"/>
              <a:gd name="adj5" fmla="val -284856"/>
              <a:gd name="adj6" fmla="val 1655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kommunikations- Überwachungsverordnung vom 22.01.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4292640"/>
            <a:ext cx="144000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118412"/>
              <a:gd name="adj5" fmla="val -288328"/>
              <a:gd name="adj6" fmla="val 1316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kommunikations- Überwachungsverordnung ca. 2 HJ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71640" y="1557360"/>
            <a:ext cx="165600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2532"/>
              <a:gd name="adj5" fmla="val 197305"/>
              <a:gd name="adj6" fmla="val -41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998 Regulatory Package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uropa.eu.int/information_society/topics/telecoms/regulatory/98_regpack/index_en.htm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1557360"/>
            <a:ext cx="165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Regulatory Framework“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lt seit 23.07.2003 unmittel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uropa.eu.int/information_society/topics/telecoms/regulatory/new_rf/index_en.htm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292720" y="2349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508464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5084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280" y="525312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 1.0 TR:FÜ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03280" y="50896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86480" y="5253120"/>
            <a:ext cx="69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4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-FÜ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35280" y="5084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79640" y="5094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35840" y="5253120"/>
            <a:ext cx="69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-FÜ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80320" y="5253120"/>
            <a:ext cx="69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2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-FÜ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11640" y="50896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28320" y="5253120"/>
            <a:ext cx="55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 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-FÜ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32480" y="50832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58520" y="5253120"/>
            <a:ext cx="55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5.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 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-TK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19640" y="5084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37760" y="5253120"/>
            <a:ext cx="55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4.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 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-TK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75920" y="5253120"/>
            <a:ext cx="55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.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 4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-TK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56360" y="5084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5600" y="5753160"/>
            <a:ext cx="1511280" cy="465120"/>
          </a:xfrm>
          <a:prstGeom prst="borderCallout2">
            <a:avLst>
              <a:gd name="adj1" fmla="val 18750"/>
              <a:gd name="adj2" fmla="val -8333"/>
              <a:gd name="adj3" fmla="val 24574"/>
              <a:gd name="adj4" fmla="val 133087"/>
              <a:gd name="adj5" fmla="val -30032"/>
              <a:gd name="adj6" fmla="val 161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P-basierter Übergabepunk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-Mail Überwach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37200" y="5950080"/>
            <a:ext cx="151128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14916"/>
              <a:gd name="adj5" fmla="val -80615"/>
              <a:gd name="adj6" fmla="val 125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passung a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SI TS 102 232, 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6381720"/>
            <a:ext cx="18003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14462"/>
              <a:gd name="adj5" fmla="val -337004"/>
              <a:gd name="adj6" fmla="val 124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ahrscheinlich 2005 W-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ahrscheinlich 2006 VoI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1521000"/>
            <a:ext cx="6705720" cy="4572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14400" y="440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CFDC-4811-442F-A272-58EB903A15D6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74480" y="665280"/>
            <a:ext cx="54475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recht der telekommunikationsüberwac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34240" y="1773360"/>
            <a:ext cx="230976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abon"/>
              </a:rPr>
              <a:t>Systemati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Recht  der Telekommunikation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Überwa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Trend: Überwachung des Zugangs (xDSL, Kabel etc.) </a:t>
            </a:r>
            <a:r>
              <a:rPr b="1" lang="de-DE" sz="1400" spc="-1" strike="noStrike" u="sng">
                <a:solidFill>
                  <a:srgbClr val="ffffff"/>
                </a:solidFill>
                <a:uFillTx/>
                <a:latin typeface="Sabon"/>
              </a:rPr>
              <a:t>und</a:t>
            </a: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 Aufbereitung dienstespezifischer Informationen (E-Mail, VoIP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Entwurf neue TKU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vom Juli 2004. Wahrscheinlich 2 HJ 2005 neue Fassu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1989000"/>
            <a:ext cx="5184720" cy="719280"/>
          </a:xfrm>
          <a:prstGeom prst="rect">
            <a:avLst/>
          </a:prstGeom>
          <a:solidFill>
            <a:srgbClr val="005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Telekommunikationsgesetz vom 22. Juni 2004 (T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§ 110 TKG Technische Umsetzung von Überwachungsmaßnahm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2998800"/>
            <a:ext cx="2592360" cy="863640"/>
          </a:xfrm>
          <a:prstGeom prst="rect">
            <a:avLst/>
          </a:prstGeom>
          <a:solidFill>
            <a:srgbClr val="005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Telekommunikation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Überwachungsverordn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vom 22. Juni 200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(§ 110 Abs. II T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64000" y="3286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95640" y="2998800"/>
            <a:ext cx="2160720" cy="1224000"/>
          </a:xfrm>
          <a:prstGeom prst="rect">
            <a:avLst/>
          </a:prstGeom>
          <a:solidFill>
            <a:srgbClr val="005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Technische Richtlin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Telekommunikations-Überwach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(TR-TKUE) V 4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vom 29. Novemb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§ 110 Abs. III T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§ 11 TKUE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2709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76720" y="2709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23840" y="4987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538920" y="4582080"/>
            <a:ext cx="1368360" cy="503280"/>
          </a:xfrm>
          <a:prstGeom prst="rect">
            <a:avLst/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§§ 100a, 100b St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170720" y="4582080"/>
            <a:ext cx="1368360" cy="503280"/>
          </a:xfrm>
          <a:prstGeom prst="rect">
            <a:avLst/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§§ 3, 5, 8 Artikel 10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1794600" y="4582080"/>
            <a:ext cx="1368360" cy="503280"/>
          </a:xfrm>
          <a:prstGeom prst="rect">
            <a:avLst/>
          </a:prstGeom>
          <a:solidFill>
            <a:srgbClr val="0054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abon"/>
              </a:rPr>
              <a:t>§§ 39-43 AW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2531880" y="4485960"/>
            <a:ext cx="1368360" cy="695520"/>
          </a:xfrm>
          <a:prstGeom prst="rect">
            <a:avLst/>
          </a:prstGeom>
          <a:solidFill>
            <a:srgbClr val="2550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Sabon"/>
              </a:rPr>
              <a:t>Landesrecht (nach Entwurf TKUEV, bisher Gesetzentwürfe in Bayern Thüringen und Niedersachs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364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7500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85112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21752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1521000"/>
            <a:ext cx="6705720" cy="457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1440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67CE-20FA-4774-8EA2-37132917B46E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übersicht europäische norm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99320" y="1844640"/>
            <a:ext cx="2374920" cy="39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abon"/>
              </a:rPr>
              <a:t>ETSI Norm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Grundsatz: der nationale Gesetzgeber ist grundsätzlich souverän in der Ausgestaltung der Anforderungen an Überwa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aber: Harmonisierung erwünscht und die Empfehlungen sind Grundlagen der Regulierung der RegTP (s. auch § 110 Abs. III TK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abon"/>
              </a:rPr>
              <a:t>Quelle: ETSI TR 101 943 V 2.1.1 (2004-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1628640"/>
            <a:ext cx="4753080" cy="2016360"/>
          </a:xfrm>
          <a:prstGeom prst="rect">
            <a:avLst/>
          </a:prstGeom>
          <a:solidFill>
            <a:srgbClr val="005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73080" y="1600200"/>
            <a:ext cx="141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Sabon MT"/>
              </a:rPr>
              <a:t>Interception 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1844640"/>
            <a:ext cx="1513080" cy="172872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16000" y="3716280"/>
            <a:ext cx="4753080" cy="2305080"/>
          </a:xfrm>
          <a:prstGeom prst="rect">
            <a:avLst/>
          </a:prstGeom>
          <a:solidFill>
            <a:srgbClr val="005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95640" y="4005360"/>
            <a:ext cx="1513080" cy="1152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4005360"/>
            <a:ext cx="1513080" cy="1152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88920" y="5805360"/>
            <a:ext cx="130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Sabon MT"/>
              </a:rPr>
              <a:t>Handover  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51440" y="184644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abon MT"/>
              </a:rPr>
              <a:t>Festnetz und W-LAN (Draf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635280" y="2923920"/>
            <a:ext cx="1008000" cy="144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01 909-20 (Kabe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838320" y="2923920"/>
            <a:ext cx="1008000" cy="144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02 227 (TIPH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4043160" y="2923920"/>
            <a:ext cx="1008000" cy="144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R 102 053 (ISD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4248000" y="2923920"/>
            <a:ext cx="1008000" cy="144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EG 201 781 (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451400" y="2923920"/>
            <a:ext cx="1008000" cy="14472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Sabon MT"/>
              </a:rPr>
              <a:t>ETSI TS 102 233 (emai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4655880" y="2923920"/>
            <a:ext cx="1008000" cy="144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02 102 234 (IA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4860720" y="2923920"/>
            <a:ext cx="1008000" cy="144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Sabon MT"/>
              </a:rPr>
              <a:t>DTR/LI-00014 (WLAN Draf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03280" y="1844640"/>
            <a:ext cx="1944720" cy="172872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6840" y="1844640"/>
            <a:ext cx="188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UMTS, GSM, TETRA, 3GPP-WLAN I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2735280" y="3008160"/>
            <a:ext cx="576000" cy="360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EN 301 04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(TETR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2124000" y="2900160"/>
            <a:ext cx="576000" cy="576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01 50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01 50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42 03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43 03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1474920" y="3044880"/>
            <a:ext cx="576000" cy="28728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33 10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088360" y="2169000"/>
            <a:ext cx="647640" cy="57636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R 101 51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R 141 03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1440360" y="2313360"/>
            <a:ext cx="647640" cy="28728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Sabon MT"/>
              </a:rPr>
              <a:t>ETSI TS 133 10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Sabon MT"/>
              </a:rPr>
              <a:t>Requirem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11280" y="278136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63640" y="278136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43280" y="2133720"/>
            <a:ext cx="2592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Sabon MT"/>
              </a:rPr>
              <a:t>ETSI ES 201 158 (Requirements for network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Sabon MT"/>
              </a:rPr>
              <a:t>ETSI ES 101 331 (Requirements for LE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700000" y="2276640"/>
            <a:ext cx="14292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87640" y="2349360"/>
            <a:ext cx="0" cy="551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235908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51320" y="235908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57600" y="235908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59200" y="235908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70520" y="235908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72120" y="235908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73720" y="2359080"/>
            <a:ext cx="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11280" y="4221000"/>
            <a:ext cx="2376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01 671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ES 201 67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0360" y="3500280"/>
            <a:ext cx="0" cy="72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36920" y="3500280"/>
            <a:ext cx="0" cy="72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33840" y="3500280"/>
            <a:ext cx="0" cy="72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30760" y="3500280"/>
            <a:ext cx="0" cy="72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11320" y="3486240"/>
            <a:ext cx="5040" cy="7347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56000" y="3481560"/>
            <a:ext cx="0" cy="739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4644000" y="4291560"/>
            <a:ext cx="1008000" cy="57780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Sabon MT"/>
              </a:rPr>
              <a:t>ETSI TS 102 23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Sabon MT"/>
              </a:rPr>
              <a:t>(Wireline) (IP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32360" y="3500280"/>
            <a:ext cx="0" cy="576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33960" y="3500280"/>
            <a:ext cx="0" cy="576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560" y="3500280"/>
            <a:ext cx="0" cy="57636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1423080" y="4291560"/>
            <a:ext cx="1008000" cy="577800"/>
          </a:xfrm>
          <a:prstGeom prst="rect">
            <a:avLst/>
          </a:prstGeom>
          <a:solidFill>
            <a:srgbClr val="c7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ETSI TS 133 10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abon MT"/>
              </a:rPr>
              <a:t>(UMT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3500280"/>
            <a:ext cx="0" cy="576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95640" y="3500280"/>
            <a:ext cx="0" cy="576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16000" y="5338800"/>
            <a:ext cx="475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92320" y="5229360"/>
            <a:ext cx="787680" cy="215640"/>
          </a:xfrm>
          <a:prstGeom prst="rect">
            <a:avLst/>
          </a:prstGeom>
          <a:solidFill>
            <a:srgbClr val="005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abon MT"/>
              </a:rPr>
              <a:t>HI2 and HI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5445000"/>
            <a:ext cx="4032360" cy="21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26840" y="5446800"/>
            <a:ext cx="193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abon MT"/>
              </a:rPr>
              <a:t>Law Enforcement Monitoring Faci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508464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508464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92360" y="4437000"/>
            <a:ext cx="0" cy="10080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00360" cy="8240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6912360" y="6095880"/>
            <a:ext cx="1220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DEDF-B684-4246-9A63-BA2B78F0A2C3}" type="slidenum">
              <a:rPr b="0" lang="de-DE" sz="1400" spc="-1" strike="noStrike">
                <a:solidFill>
                  <a:srgbClr val="808080"/>
                </a:solidFill>
                <a:latin typeface="Sabon RomanS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Jörg Müller-Kind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Sabon"/>
              </a:rPr>
              <a:t>me@jmmk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6705720" y="1523880"/>
            <a:ext cx="2438280" cy="4572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543600" y="665280"/>
            <a:ext cx="5007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13385e"/>
                </a:solidFill>
                <a:latin typeface="Sabon RomanSC"/>
              </a:rPr>
              <a:t>tküv – das ohr am dra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3385e"/>
                </a:solidFill>
                <a:latin typeface="Sabon RomanSC"/>
              </a:rPr>
              <a:t>architektur ip-vpn der Reg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34240" y="1700280"/>
            <a:ext cx="205884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abon"/>
              </a:rPr>
              <a:t>RegTP VP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IP-basierter Übergabepunkt fü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Telekommunikation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abon"/>
              </a:rPr>
              <a:t>Überwa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Sabon"/>
              </a:rPr>
              <a:t>Kryptobox: SINA Box von Secu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Sabon"/>
              </a:rPr>
              <a:t>Transportprotokoll: 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Sabon"/>
              </a:rPr>
              <a:t>Keine Rückwirkung in die Providernetze aus dem VP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abon"/>
              </a:rPr>
              <a:t>Quelle: RegTP (modifizie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ffff"/>
              </a:buClr>
              <a:buFont typeface="Sab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492360" y="2955960"/>
            <a:ext cx="576360" cy="3286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826920" y="4233960"/>
            <a:ext cx="438480" cy="2746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1557360"/>
            <a:ext cx="6716880" cy="453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19640" y="1844640"/>
            <a:ext cx="2882880" cy="1513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4005360"/>
            <a:ext cx="5689440" cy="165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1844640"/>
            <a:ext cx="2665440" cy="1513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11000" y="1844640"/>
            <a:ext cx="6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abon MT"/>
              </a:rPr>
              <a:t>Reg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0200" y="184464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abon MT"/>
              </a:rPr>
              <a:t>Berechtigte S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4427640" y="2932200"/>
            <a:ext cx="576000" cy="3286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>
            <a:off x="5362560" y="2932200"/>
            <a:ext cx="576360" cy="3286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flipV="1">
            <a:off x="971640" y="3901680"/>
            <a:ext cx="0" cy="35892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7"/>
          <a:stretch/>
        </p:blipFill>
        <p:spPr>
          <a:xfrm>
            <a:off x="684360" y="3357720"/>
            <a:ext cx="792000" cy="549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82560" y="349236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abon MT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83560" y="208440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PKI &amp; C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Management S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92000" y="2084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F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Test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computr2"/>
          <p:cNvSpPr/>
          <p:nvPr/>
        </p:nvSpPr>
        <p:spPr>
          <a:xfrm>
            <a:off x="5548320" y="2492280"/>
            <a:ext cx="287280" cy="216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8320" y="2084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F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Test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80000" y="2781360"/>
            <a:ext cx="0" cy="216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3284640"/>
            <a:ext cx="2303640" cy="431640"/>
          </a:xfrm>
          <a:custGeom>
            <a:avLst/>
            <a:gdLst/>
            <a:ahLst/>
            <a:rect l="l" t="t" r="r" b="b"/>
            <a:pathLst>
              <a:path w="1451" h="408">
                <a:moveTo>
                  <a:pt x="1451" y="0"/>
                </a:moveTo>
                <a:lnTo>
                  <a:pt x="1451" y="408"/>
                </a:lnTo>
                <a:lnTo>
                  <a:pt x="0" y="408"/>
                </a:lnTo>
              </a:path>
            </a:pathLst>
          </a:custGeom>
          <a:noFill/>
          <a:ln w="93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78560" y="3535200"/>
            <a:ext cx="130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abon MT"/>
              </a:rPr>
              <a:t>Management SINA-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18080" y="3767040"/>
            <a:ext cx="184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abon MT"/>
              </a:rPr>
              <a:t>Verpflichteter Netzbetrei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8"/>
          <a:stretch/>
        </p:blipFill>
        <p:spPr>
          <a:xfrm>
            <a:off x="4643280" y="2421000"/>
            <a:ext cx="185760" cy="3682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9"/>
          <a:stretch/>
        </p:blipFill>
        <p:spPr>
          <a:xfrm>
            <a:off x="3684600" y="2428920"/>
            <a:ext cx="185760" cy="36828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3276720" y="4437000"/>
            <a:ext cx="503280" cy="1079640"/>
            <a:chOff x="3276720" y="4437000"/>
            <a:chExt cx="503280" cy="1079640"/>
          </a:xfrm>
        </p:grpSpPr>
        <p:pic>
          <p:nvPicPr>
            <p:cNvPr id="311" name="" descr=""/>
            <p:cNvPicPr/>
            <p:nvPr/>
          </p:nvPicPr>
          <p:blipFill>
            <a:blip r:embed="rId10"/>
            <a:stretch/>
          </p:blipFill>
          <p:spPr>
            <a:xfrm>
              <a:off x="3355920" y="4510080"/>
              <a:ext cx="35244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11"/>
            <a:stretch/>
          </p:blipFill>
          <p:spPr>
            <a:xfrm>
              <a:off x="3332160" y="5129280"/>
              <a:ext cx="37332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276720" y="4437000"/>
              <a:ext cx="503280" cy="10796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4" name="" descr=""/>
          <p:cNvPicPr/>
          <p:nvPr/>
        </p:nvPicPr>
        <p:blipFill>
          <a:blip r:embed="rId12"/>
          <a:stretch/>
        </p:blipFill>
        <p:spPr>
          <a:xfrm>
            <a:off x="1692360" y="4915080"/>
            <a:ext cx="438120" cy="2743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3"/>
          <a:stretch/>
        </p:blipFill>
        <p:spPr>
          <a:xfrm>
            <a:off x="5219640" y="4724280"/>
            <a:ext cx="290520" cy="574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4"/>
          <a:stretch/>
        </p:blipFill>
        <p:spPr>
          <a:xfrm>
            <a:off x="2482920" y="4888080"/>
            <a:ext cx="576360" cy="32832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4108680" y="4869000"/>
            <a:ext cx="682200" cy="350640"/>
            <a:chOff x="4108680" y="4869000"/>
            <a:chExt cx="682200" cy="350640"/>
          </a:xfrm>
        </p:grpSpPr>
        <p:pic>
          <p:nvPicPr>
            <p:cNvPr id="318" name="" descr=""/>
            <p:cNvPicPr/>
            <p:nvPr/>
          </p:nvPicPr>
          <p:blipFill>
            <a:blip r:embed="rId15"/>
            <a:stretch/>
          </p:blipFill>
          <p:spPr>
            <a:xfrm>
              <a:off x="4184640" y="4869000"/>
              <a:ext cx="504360" cy="3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4108680" y="4940280"/>
              <a:ext cx="68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Intranet 2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 flipH="1">
            <a:off x="2123640" y="5084640"/>
            <a:ext cx="360360" cy="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331640" y="5084640"/>
            <a:ext cx="360360" cy="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971640" y="4508280"/>
            <a:ext cx="0" cy="36036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16000" y="3860640"/>
            <a:ext cx="0" cy="432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16000" y="4508640"/>
            <a:ext cx="0" cy="36036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32000" y="5013360"/>
            <a:ext cx="3603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24000" y="5013360"/>
            <a:ext cx="3603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6"/>
          <a:stretch/>
        </p:blipFill>
        <p:spPr>
          <a:xfrm>
            <a:off x="900000" y="2133720"/>
            <a:ext cx="290520" cy="5745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7"/>
          <a:stretch/>
        </p:blipFill>
        <p:spPr>
          <a:xfrm>
            <a:off x="755640" y="2852640"/>
            <a:ext cx="576360" cy="3286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V="1">
            <a:off x="971640" y="3141720"/>
            <a:ext cx="0" cy="21600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971640" y="2660400"/>
            <a:ext cx="0" cy="21564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987280" y="5084640"/>
            <a:ext cx="289080" cy="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779640" y="5084640"/>
            <a:ext cx="431640" cy="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23720" y="429264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Überwachung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716360" y="5084640"/>
            <a:ext cx="503280" cy="0"/>
          </a:xfrm>
          <a:prstGeom prst="line">
            <a:avLst/>
          </a:prstGeom>
          <a:ln w="9360">
            <a:solidFill>
              <a:srgbClr val="2550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07360" y="220500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FTP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abon MT"/>
              </a:rPr>
              <a:t>Berechtigte St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75080" y="4878360"/>
            <a:ext cx="572400" cy="351000"/>
            <a:chOff x="775080" y="4878360"/>
            <a:chExt cx="572400" cy="351000"/>
          </a:xfrm>
        </p:grpSpPr>
        <p:pic>
          <p:nvPicPr>
            <p:cNvPr id="337" name="" descr=""/>
            <p:cNvPicPr/>
            <p:nvPr/>
          </p:nvPicPr>
          <p:blipFill>
            <a:blip r:embed="rId18"/>
            <a:stretch/>
          </p:blipFill>
          <p:spPr>
            <a:xfrm>
              <a:off x="801720" y="4878360"/>
              <a:ext cx="50472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75080" y="493884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abon MT"/>
                </a:rPr>
                <a:t>Intra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1:57:47Z</dcterms:created>
  <dc:creator>jonni</dc:creator>
  <dc:description/>
  <dc:language>en-US</dc:language>
  <cp:lastModifiedBy>Joerg Mueller-Kindt</cp:lastModifiedBy>
  <dcterms:modified xsi:type="dcterms:W3CDTF">2004-12-13T10:23:48Z</dcterms:modified>
  <cp:revision>102</cp:revision>
  <dc:subject/>
  <dc:title>PowerPoint-Präsentation</dc:title>
</cp:coreProperties>
</file>